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4E2D7-28AA-41FB-9F0F-26D203E6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2D03B-D0BE-4DB8-84F3-878F1106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0201A-82C2-4367-B126-E0E8B24DA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DB0FD-2338-4557-B83C-D11A9A59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4369D-F34B-4638-84DF-F652BC614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64836-E274-44ED-AF8E-10F34B7C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8FD22-8D0C-40D3-B8BE-2AECE149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FDF5B-7940-4DE3-A31E-6122E12EB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124B-895D-4163-ABE8-EE9E56ADC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937BF-BFEC-4051-96A3-43C040B55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A26D9-FC17-44FD-88D4-3881BFD9F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4E44E-8CB6-44B0-AA89-200699D4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E790D-FC05-4466-9C2A-213336E60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25176-2FE0-46C2-B1BC-CEFAC37C2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BF143-2EEE-480A-AABE-B70203AE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C0CF9-3604-4D91-992C-EF1F88269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309B2-370E-44B8-B046-6DD862471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8E6BD-EB34-40EE-B918-32B8384B3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1F6EB-DD3F-40E0-99DF-6C39FBC66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DD553-A675-43C0-806D-7C54412FF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676F8-0DA3-41A0-A20E-37AE258FA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C6551-AC6C-4370-A586-28A4C5524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20F58-0CA4-4274-B7AB-A3E32C36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0BFB3-6383-43A3-A0C6-17F4165E8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4F79B-2DFE-4B5E-B62D-C98A4730A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C1474-B457-4D8C-A1C2-905A58683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5C726-9D32-41B3-A69F-1695630C4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72C3E-4C94-4C85-AEEB-39EF8861E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37A31-CF15-46D0-9BDD-9C05B2BED8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D27B6-1CAE-4331-9BD4-530B148F7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E4537-EDCB-437E-A03D-9592A893C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E24B9-F9D9-4994-AA18-3075B22BA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2C4A7-0E4C-44BE-838A-518B12F18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E2F5A-C984-4549-BF8B-1AA1C565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D7BD8-7493-4683-BA38-E7E96CC86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0D83A-E3EC-47AF-9A7E-8249F0725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9187A-1455-4DD1-85A9-BB8F1E2DC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7A0E8-B17F-4D8B-8F44-12EEF47BD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C1DE5-2C1A-420D-AB01-12116C6DD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7B0B4-2211-48A6-BED6-F3C59B7A0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2D23E-6B96-4BCE-984A-7B4B83B9D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C6EC2-BFED-4387-9C4C-D571ED2D1A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FA905-1774-410D-970F-BEA32946C9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F3775A-AE93-4952-82DF-FBCB823B7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9708D-93CD-44B9-AA6C-47F95B40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330A2-1BF4-4A62-BF86-C1D485054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FA434-8DE0-4322-916A-5FA13FAD4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390D1-83AD-4251-B234-C06521817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6CE90-781C-4524-A37F-C3685439B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60A79-EB6F-4386-9354-118FF4031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744E0-1A3B-4C87-A57F-6205443AB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AFFA2-8DFA-46AF-8DE7-AFCCB09D8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A8307-84DA-4665-B1D3-C3371C4FD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8D5BA-344E-4F2B-81C7-10CEF6B8C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57233F-5A68-4B59-A6EB-4D44E593C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4E7C5-003C-4887-B877-39D44D54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33754-37DC-4B93-B507-D8D5D2DE2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231D05-EF88-42A4-9699-134AB6F2D1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9E85F-F876-4F4F-BC4A-F81D624CF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680C3-1357-48F9-BE1E-519FE0A20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E7CC9-4FAA-4252-BB00-9F1E06AF7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82681-6D4C-45EE-AFD4-BF0847987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C45F4E-AD94-4458-920E-222CFB697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B2661-6094-4332-A715-082378AE3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049D7-63AF-4029-8439-CC08EEF2C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92A09-AE85-4FF7-BACE-A74DFFEB4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F314-C509-4ECA-A7BD-B4DF1777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57D43-D36F-4348-AD71-02085AA4A7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9F4A1F-391D-4888-8CD6-0C6C1FB482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38F3F-1F40-44AD-9DEE-B5AF76A41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EF6648-4214-4F56-9D93-456A33DFDD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1987C-D7AE-42B7-B583-5A8F371976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DCF8D-11B3-48B7-9314-8302187B12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055F7-776B-4D08-9545-2A12926B3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91D79-7552-4652-BBED-E7A108E88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9F9C6-8C46-4FFD-83FD-71A0F36BB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B0E08-6764-49F4-A171-98BC9EE8F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E189-8BA2-492E-9465-C88CBFADD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8AC4D-8134-4246-BCBA-56F5F331F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BE2CB-B119-436F-8EF2-82528B42E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4A220-AED6-4555-9F43-5FF081EC5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84842B-D3AF-4764-A425-A2B819F0B5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79120-D910-4E35-9E5E-2BDA9072C8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EF67-9CA3-47A2-B6D9-203492B2D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Πίτα"/>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 Κουλούρα"/>
          <p:cNvGrpSpPr/>
          <p:nvPr/>
        </p:nvGrpSpPr>
        <p:grpSpPr>
          <a:xfrm>
            <a:off x="171360" y="1042920"/>
            <a:ext cx="1157400" cy="1150920"/>
            <a:chOff x="171360" y="1042920"/>
            <a:chExt cx="1157400" cy="1150920"/>
          </a:xfrm>
        </p:grpSpPr>
        <p:pic>
          <p:nvPicPr>
            <p:cNvPr id="3" name="10 - Κουλούρα"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C8B4-C09A-4DBD-B033-04E8E3290AFE}"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 Πίτα"/>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 Κουλούρα"/>
          <p:cNvGrpSpPr/>
          <p:nvPr/>
        </p:nvGrpSpPr>
        <p:grpSpPr>
          <a:xfrm>
            <a:off x="171360" y="1042920"/>
            <a:ext cx="1157400" cy="1150920"/>
            <a:chOff x="171360" y="1042920"/>
            <a:chExt cx="1157400" cy="1150920"/>
          </a:xfrm>
        </p:grpSpPr>
        <p:pic>
          <p:nvPicPr>
            <p:cNvPr id="51" name="10 - Κουλούρα"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 Έλλειψη"/>
          <p:cNvGrpSpPr/>
          <p:nvPr/>
        </p:nvGrpSpPr>
        <p:grpSpPr>
          <a:xfrm>
            <a:off x="920880" y="1414440"/>
            <a:ext cx="218880" cy="212760"/>
            <a:chOff x="920880" y="1414440"/>
            <a:chExt cx="218880" cy="212760"/>
          </a:xfrm>
        </p:grpSpPr>
        <p:pic>
          <p:nvPicPr>
            <p:cNvPr id="56" name="12 - Έλλειψη"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 Έλλειψη"/>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1DB5-FE3C-470F-BA92-3DBB08A3CE45}"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 Ορθογώνιο"/>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 Ορθογώνιο"/>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 Έλλειψη"/>
          <p:cNvGrpSpPr/>
          <p:nvPr/>
        </p:nvGrpSpPr>
        <p:grpSpPr>
          <a:xfrm>
            <a:off x="2170080" y="2816280"/>
            <a:ext cx="219240" cy="212760"/>
            <a:chOff x="2170080" y="2816280"/>
            <a:chExt cx="219240" cy="212760"/>
          </a:xfrm>
        </p:grpSpPr>
        <p:pic>
          <p:nvPicPr>
            <p:cNvPr id="103" name="15 - Έλλειψη"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 Έλλειψη"/>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DD33-CC8E-482C-A8E8-C4B7C5F57DFF}"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C31E-8BE6-44BE-B907-8035B01E9899}"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 Ορθογώνιο"/>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9D71-4445-4132-974B-329D17CE2862}"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4B51-E497-4564-A24E-459EBFF77BB1}"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 Ορθογώνιο"/>
          <p:cNvGrpSpPr/>
          <p:nvPr/>
        </p:nvGrpSpPr>
        <p:grpSpPr>
          <a:xfrm>
            <a:off x="652320" y="974880"/>
            <a:ext cx="4797720" cy="4797360"/>
            <a:chOff x="652320" y="974880"/>
            <a:chExt cx="4797720" cy="4797360"/>
          </a:xfrm>
        </p:grpSpPr>
        <p:pic>
          <p:nvPicPr>
            <p:cNvPr id="273" name="12 - Ορθογώνιο"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 Διάγραμμα ροής: Διεργασία"/>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 Διάγραμμα ροής: Διεργασία"/>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D02-2CEB-4414-87A8-BAA817CD2117}" type="slidenum">
              <a:rPr b="0" lang="el-GR"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57200" y="1071360"/>
            <a:ext cx="7407360" cy="14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ΑΘΛΗΤΙΣΜΟΣ ΚΑΙ ΗΘΙΚΗ ΑΝΑΠΤΥΞΗ</a:t>
            </a:r>
            <a:endParaRPr b="0" lang="en-US" sz="4300" spc="-1" strike="noStrike">
              <a:solidFill>
                <a:srgbClr val="572314"/>
              </a:solidFill>
              <a:latin typeface="Corbel"/>
            </a:endParaRPr>
          </a:p>
        </p:txBody>
      </p:sp>
      <p:sp>
        <p:nvSpPr>
          <p:cNvPr id="319" name="PlaceHolder 2"/>
          <p:cNvSpPr>
            <a:spLocks noGrp="1"/>
          </p:cNvSpPr>
          <p:nvPr>
            <p:ph type="subTitle"/>
          </p:nvPr>
        </p:nvSpPr>
        <p:spPr>
          <a:xfrm>
            <a:off x="1428840" y="3071880"/>
            <a:ext cx="740736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320e04"/>
                </a:solidFill>
                <a:latin typeface="Corbel"/>
              </a:rPr>
              <a:t>Β. Μπαρκούκης</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320e04"/>
                </a:solidFill>
                <a:latin typeface="Corbel"/>
              </a:rPr>
              <a:t>Επίκουρος καθηγητής ΤΕΦΑΑ - ΑΠΘ</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Ηθικός συλλογισμός</a:t>
            </a:r>
            <a:endParaRPr b="0" lang="en-US" sz="4300" spc="-1" strike="noStrike">
              <a:solidFill>
                <a:srgbClr val="572314"/>
              </a:solidFill>
              <a:latin typeface="Corbel"/>
            </a:endParaRPr>
          </a:p>
        </p:txBody>
      </p:sp>
      <p:sp>
        <p:nvSpPr>
          <p:cNvPr id="339" name=""/>
          <p:cNvSpPr txBox="1"/>
          <p:nvPr/>
        </p:nvSpPr>
        <p:spPr>
          <a:xfrm>
            <a:off x="1042560" y="1447560"/>
            <a:ext cx="7891560" cy="5221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ορίζει τον ηθικό συλλογισμό ως «τη λογική που χρησιμοποιούν τα άτομα για να κρίνουν την ορθότητα ή το λάθος» των συμπεριφορών.</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α άτομα μπορεί να εκδηλώνουν την ίδια προκοινωνική συμπεριφορά, αλλά η λογική διεργασία πίσω απ’ αυτή τη συμπεριφορά μπορεί να είναι διαφορετική για κάθε άτομο.</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Calibri"/>
                <a:ea typeface="Times New Roman"/>
              </a:rPr>
              <a:t>Θεωρίες ηθικής ανάπτυξης</a:t>
            </a:r>
            <a:endParaRPr b="0" lang="en-US" sz="4300" spc="-1" strike="noStrike">
              <a:solidFill>
                <a:srgbClr val="572314"/>
              </a:solidFill>
              <a:latin typeface="Corbel"/>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ea typeface="Times New Roman"/>
              </a:rPr>
              <a:t>Θεωρία της κοινωνικής μάθησης </a:t>
            </a:r>
            <a:endParaRPr b="0" lang="en-US" sz="3200" spc="-1" strike="noStrike">
              <a:solidFill>
                <a:srgbClr val="000000"/>
              </a:solidFill>
              <a:latin typeface="Corbe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Η ηθική ανάπτυξη συντελείται καθώς το άτομο εσωτερικεύει ή υιοθετεί τις προκοινωνικές νόρμες της κοινωνίας. </a:t>
            </a: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ea typeface="Times New Roman"/>
              </a:rPr>
              <a:t>Θεωρία της δομικής ανάπτυξης</a:t>
            </a:r>
            <a:endParaRPr b="0" lang="en-US" sz="3200" spc="-1" strike="noStrike">
              <a:solidFill>
                <a:srgbClr val="000000"/>
              </a:solidFill>
              <a:latin typeface="Corbe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Ο συλλογισμός πίσω από τις συμπεριφορές είναι πιο σημαντικός από τις ίδιες τις συμπεριφορές</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572314"/>
                </a:solidFill>
                <a:latin typeface="Calibri"/>
                <a:ea typeface="Times New Roman"/>
              </a:rPr>
              <a:t>Θεωρία της κοινωνικής μάθησης </a:t>
            </a:r>
            <a:endParaRPr b="0" lang="en-US" sz="3900" spc="-1" strike="noStrike">
              <a:solidFill>
                <a:srgbClr val="572314"/>
              </a:solidFill>
              <a:latin typeface="Corbel"/>
            </a:endParaRPr>
          </a:p>
        </p:txBody>
      </p:sp>
      <p:sp>
        <p:nvSpPr>
          <p:cNvPr id="343" name=""/>
          <p:cNvSpPr txBox="1"/>
          <p:nvPr/>
        </p:nvSpPr>
        <p:spPr>
          <a:xfrm>
            <a:off x="1434960" y="1447920"/>
            <a:ext cx="7499520" cy="5076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ο άτομο μαθαίνει να σκέφτεται και να εκδηλώνει συμπεριφορές με τρεις διεργασίες: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Α) την ενίσχυση,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Β) την προτυποποίηση και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Γ) την κοινωνική σύγκριση</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572314"/>
                </a:solidFill>
                <a:latin typeface="Calibri"/>
                <a:ea typeface="Times New Roman"/>
              </a:rPr>
              <a:t>Θεωρία της κοινωνικής μάθησης </a:t>
            </a:r>
            <a:endParaRPr b="0" lang="en-US" sz="3900" spc="-1" strike="noStrike">
              <a:solidFill>
                <a:srgbClr val="572314"/>
              </a:solidFill>
              <a:latin typeface="Corbel"/>
            </a:endParaRPr>
          </a:p>
        </p:txBody>
      </p:sp>
      <p:sp>
        <p:nvSpPr>
          <p:cNvPr id="345" name=""/>
          <p:cNvSpPr txBox="1"/>
          <p:nvPr/>
        </p:nvSpPr>
        <p:spPr>
          <a:xfrm>
            <a:off x="1042560" y="1447560"/>
            <a:ext cx="7891560" cy="5553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Calibri"/>
                <a:ea typeface="Times New Roman"/>
              </a:rPr>
              <a:t>Ένα άτομο μαθαίνει συμπεριφορές:</a:t>
            </a:r>
            <a:endParaRPr b="0" lang="en-US" sz="27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Παρατηρώντας τους σημαντικούς άλλους και τους ανθρώπους που του μοιάζουν (π.χ., γονείς, οικογένεια, συνομηλίκους, δασκάλους, προπονητές).</a:t>
            </a:r>
            <a:endParaRPr b="0" lang="en-US" sz="27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Όταν κάποιες συμπεριφορές επιβραβεύονται με κάποιον τρόπο. </a:t>
            </a:r>
            <a:endParaRPr b="0" lang="en-US" sz="27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Οι προκοινωνικές συμπεριφορές μαθαίνονται, όταν το ίδιο το παιδί εκδηλώνει προκοινωνικές συμπεριφορές και επιβραβεύεται γι’ αυτές. </a:t>
            </a:r>
            <a:endParaRPr b="0" lang="en-US" sz="27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Οι ανεπιθύμητες συμπεριφορές μαθαίνονται επίσης μέσω της παρατήρησης, όπως όταν ένα άτομο ή ένας σημαντικός άλλος δεν επιπλήττεται ή ακόμη και επιβραβεύεται για την εκδήλωση αυτών των συμπεριφορών.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572314"/>
                </a:solidFill>
                <a:latin typeface="Calibri"/>
                <a:ea typeface="Times New Roman"/>
              </a:rPr>
              <a:t>Θεωρία της κοινωνικής μάθησης </a:t>
            </a:r>
            <a:endParaRPr b="0" lang="en-US" sz="3900" spc="-1" strike="noStrike">
              <a:solidFill>
                <a:srgbClr val="572314"/>
              </a:solidFill>
              <a:latin typeface="Corbel"/>
            </a:endParaRPr>
          </a:p>
        </p:txBody>
      </p:sp>
      <p:sp>
        <p:nvSpPr>
          <p:cNvPr id="347" name=""/>
          <p:cNvSpPr txBox="1"/>
          <p:nvPr/>
        </p:nvSpPr>
        <p:spPr>
          <a:xfrm>
            <a:off x="1434960" y="1447920"/>
            <a:ext cx="7499520" cy="507672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Οι ηθικές συμπεριφορές είναι εκείνες που συνάδουν με τις νόρμες της κοινωνίας. </a:t>
            </a:r>
            <a:endParaRPr b="0" lang="en-US" sz="3200" spc="-1" strike="noStrike">
              <a:solidFill>
                <a:srgbClr val="000000"/>
              </a:solidFill>
              <a:latin typeface="Corbel"/>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ο επίκεντρο της θεωρίας της κοινωνικής μάθησης αφορά στις έκδηλες, ευκρινείς συμπεριφορές</a:t>
            </a:r>
            <a:endParaRPr b="0" lang="en-US" sz="3200" spc="-1" strike="noStrike">
              <a:solidFill>
                <a:srgbClr val="000000"/>
              </a:solidFill>
              <a:latin typeface="Corbel"/>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Η θεωρία δεν ασχολείται με τον συλλογισμό πίσω από  τις συμπεριφορέ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Εφαρμογές στον αθλητισμό</a:t>
            </a:r>
            <a:endParaRPr b="0" lang="en-US" sz="4300" spc="-1" strike="noStrike">
              <a:solidFill>
                <a:srgbClr val="572314"/>
              </a:solidFill>
              <a:latin typeface="Corbel"/>
            </a:endParaRPr>
          </a:p>
        </p:txBody>
      </p:sp>
      <p:sp>
        <p:nvSpPr>
          <p:cNvPr id="34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Οι προκοινωνικές συμπεριφορές όπως η τιμιότητα, ο σεβασμός και τον ενδιαφέρον για τους άλλους μπορεί να διδαχθούν στον αθλητισμό, εάν ο προπονητής προτυποποιεί τέτοιου είδους συμπεριφορές, αναγνωρίζει θετικά τους αθλητές που τις εκδηλώνουν και τους επαινεί.</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Calibri"/>
                <a:ea typeface="Times New Roman"/>
              </a:rPr>
              <a:t>Θεωρία της δομικής ανάπτυξης</a:t>
            </a:r>
            <a:endParaRPr b="0" lang="en-US" sz="4300" spc="-1" strike="noStrike">
              <a:solidFill>
                <a:srgbClr val="572314"/>
              </a:solidFill>
              <a:latin typeface="Corbel"/>
            </a:endParaRPr>
          </a:p>
        </p:txBody>
      </p:sp>
      <p:sp>
        <p:nvSpPr>
          <p:cNvPr id="351" name=""/>
          <p:cNvSpPr txBox="1"/>
          <p:nvPr/>
        </p:nvSpPr>
        <p:spPr>
          <a:xfrm>
            <a:off x="1042560" y="1447560"/>
            <a:ext cx="79930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Η δομή του συλλογισμού ενός ατόμου επηρεάζει τις κρίσεις του ατόμου για τις συμπεριφορές, καθώς και τις πραγματικές συμπεριφορές που εκδηλώνει το άτομο.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Ο ηθικός συλλογισμός μεταβάλλεται ή αναπτύσσεται μαζί με τη γνωστική ή ηθική ανάπτυξη ενός ατόμου και με διάφορες κοινωνικές αλληλεπιδράσει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274320"/>
            <a:ext cx="81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Χαρακτηριστικά ηθικού συλλογισμού</a:t>
            </a:r>
            <a:endParaRPr b="0" lang="en-US" sz="3900" spc="-1" strike="noStrike">
              <a:solidFill>
                <a:srgbClr val="572314"/>
              </a:solidFill>
              <a:latin typeface="Corbel"/>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Ηθική ισορροπία </a:t>
            </a:r>
            <a:endParaRPr b="0" lang="en-US" sz="3200" spc="-1" strike="noStrike">
              <a:solidFill>
                <a:srgbClr val="000000"/>
              </a:solidFill>
              <a:latin typeface="Corbe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Ηθικός διάλογος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Επίπεδα ηθικής ανάπτυξη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Ηθική ισορροπία</a:t>
            </a:r>
            <a:endParaRPr b="0" lang="en-US" sz="4300" spc="-1" strike="noStrike">
              <a:solidFill>
                <a:srgbClr val="572314"/>
              </a:solidFill>
              <a:latin typeface="Corbel"/>
            </a:endParaRPr>
          </a:p>
        </p:txBody>
      </p:sp>
      <p:sp>
        <p:nvSpPr>
          <p:cNvPr id="355" name=""/>
          <p:cNvSpPr txBox="1"/>
          <p:nvPr/>
        </p:nvSpPr>
        <p:spPr>
          <a:xfrm>
            <a:off x="1434960" y="1447560"/>
            <a:ext cx="7499520" cy="4800600"/>
          </a:xfrm>
          <a:prstGeom prst="rect">
            <a:avLst/>
          </a:prstGeom>
          <a:noFill/>
          <a:ln w="0">
            <a:noFill/>
          </a:ln>
        </p:spPr>
        <p:txBody>
          <a:bodyPr anchor="t">
            <a:normAutofit/>
          </a:bodyPr>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Η κατάσταση μιας βασικής συμφωνίας για τα δικαιώματα και/ή τις υποχρεώσεις όλων των εμπλεκομένων μερών.</a:t>
            </a:r>
            <a:endParaRPr b="0" lang="en-US" sz="2800" spc="-1" strike="noStrike">
              <a:solidFill>
                <a:srgbClr val="000000"/>
              </a:solidFill>
              <a:latin typeface="Corbe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Η ηθική ανισορροπία προκύπτει, όταν ένα μέρος δίνει ή παίρνει υπερβολικά πολλά σε μια σχέση και υπάρχει διαφωνία για τα δικαιώματα και τις υποχρεώσεις.</a:t>
            </a:r>
            <a:endParaRPr b="0" lang="en-US" sz="2800" spc="-1" strike="noStrike">
              <a:solidFill>
                <a:srgbClr val="000000"/>
              </a:solidFill>
              <a:latin typeface="Corbe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Ηθικός διάλογος</a:t>
            </a:r>
            <a:endParaRPr b="0" lang="en-US" sz="4300" spc="-1" strike="noStrike">
              <a:solidFill>
                <a:srgbClr val="572314"/>
              </a:solidFill>
              <a:latin typeface="Corbel"/>
            </a:endParaRPr>
          </a:p>
        </p:txBody>
      </p:sp>
      <p:sp>
        <p:nvSpPr>
          <p:cNvPr id="357" name=""/>
          <p:cNvSpPr txBox="1"/>
          <p:nvPr/>
        </p:nvSpPr>
        <p:spPr>
          <a:xfrm>
            <a:off x="1434960" y="1447560"/>
            <a:ext cx="7499520" cy="4800600"/>
          </a:xfrm>
          <a:prstGeom prst="rect">
            <a:avLst/>
          </a:prstGeom>
          <a:noFill/>
          <a:ln w="0">
            <a:noFill/>
          </a:ln>
        </p:spPr>
        <p:txBody>
          <a:bodyPr anchor="t">
            <a:normAutofit/>
          </a:bodyPr>
          <a:p>
            <a:pPr lvl="1"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Η διεργασία μέσω της οποίας επιτυγχάνεται ηθική ισορροπία. </a:t>
            </a:r>
            <a:endParaRPr b="0" lang="en-US" sz="2800" spc="-1" strike="noStrike">
              <a:solidFill>
                <a:srgbClr val="000000"/>
              </a:solidFill>
              <a:latin typeface="Corbel"/>
            </a:endParaRPr>
          </a:p>
          <a:p>
            <a:pPr lvl="1"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ea typeface="Times New Roman"/>
              </a:rPr>
              <a:t>Ένας διάλογος μπορεί να περιλαμβάνει τη λεκτική διαπραγμάτευση των δικαιωμάτων ή ακόμη και τις μη λεκτικές αλληλεπιδράσεις. </a:t>
            </a: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Μενού της ημέρας</a:t>
            </a:r>
            <a:endParaRPr b="0" lang="en-US" sz="4300" spc="-1" strike="noStrike">
              <a:solidFill>
                <a:srgbClr val="572314"/>
              </a:solidFill>
              <a:latin typeface="Corbel"/>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Ηθική ανάπτυξη στον αθλητισμό</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Θεωρητικές προσεγγίσεις για τη δημιουργία παιδαγωγικά ορθού κλίματος προπόνησης</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Πρακτικές δημιουργίας παιδαγωγικά ορθού κλίματος προπόνηση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Επίπεδα ηθικής ανάπτυξης</a:t>
            </a:r>
            <a:endParaRPr b="0" lang="en-US" sz="4300" spc="-1" strike="noStrike">
              <a:solidFill>
                <a:srgbClr val="572314"/>
              </a:solidFill>
              <a:latin typeface="Corbel"/>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Φάση προσομείωσης</a:t>
            </a:r>
            <a:endParaRPr b="0" lang="en-US" sz="3200" spc="-1" strike="noStrike">
              <a:solidFill>
                <a:srgbClr val="000000"/>
              </a:solidFill>
              <a:latin typeface="Corbel"/>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2 επίπεδα</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Φάση εγκατάστασης</a:t>
            </a:r>
            <a:endParaRPr b="0" lang="en-US" sz="3200" spc="-1" strike="noStrike">
              <a:solidFill>
                <a:srgbClr val="000000"/>
              </a:solidFill>
              <a:latin typeface="Corbel"/>
            </a:endParaRPr>
          </a:p>
          <a:p>
            <a:pPr lvl="1" marL="639720" indent="-236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2 επίπεδα</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Φάση εξισορρόπησης</a:t>
            </a:r>
            <a:endParaRPr b="0" lang="en-US" sz="3200" spc="-1" strike="noStrike">
              <a:solidFill>
                <a:srgbClr val="000000"/>
              </a:solidFill>
              <a:latin typeface="Corbel"/>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1 επίπεδο</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προσομείωσης</a:t>
            </a:r>
            <a:endParaRPr b="0" lang="en-US" sz="4300" spc="-1" strike="noStrike">
              <a:solidFill>
                <a:srgbClr val="572314"/>
              </a:solidFill>
              <a:latin typeface="Corbel"/>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Στα δύο πρώτα επίπεδα το παιδί δίνει προτεραιότητα στις δικές του ανάγκες και τα ενδιαφέροντά του.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ο παιδί δεν μπορεί να αντιληφθεί την οπτική των άλλων, λόγω του επιπέδου της γνωστικής του ανάπτυξης.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προσομείωσης</a:t>
            </a:r>
            <a:endParaRPr b="0" lang="en-US" sz="4300" spc="-1" strike="noStrike">
              <a:solidFill>
                <a:srgbClr val="572314"/>
              </a:solidFill>
              <a:latin typeface="Corbel"/>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Στο Επίπεδο 1, το παιδί κρίνει εάν μια ενέργεια είναι ορθή ή εσφαλμένη ανάλογα με το αποτέλεσμα.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Στο Επίπεδο 2 το παιδί υιοθετεί την προσέγγιση «οφθαλμός αντί οφθαλμού» στον ηθικό συλλογισμό.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εγκατάστασης</a:t>
            </a:r>
            <a:endParaRPr b="0" lang="en-US" sz="4300" spc="-1" strike="noStrike">
              <a:solidFill>
                <a:srgbClr val="572314"/>
              </a:solidFill>
              <a:latin typeface="Corbel"/>
            </a:endParaRPr>
          </a:p>
        </p:txBody>
      </p:sp>
      <p:sp>
        <p:nvSpPr>
          <p:cNvPr id="365" name=""/>
          <p:cNvSpPr txBox="1"/>
          <p:nvPr/>
        </p:nvSpPr>
        <p:spPr>
          <a:xfrm>
            <a:off x="1434960" y="1268280"/>
            <a:ext cx="7499520" cy="5329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ο παιδί δίνει προτεραιότητα στις ανάγκες και στα ενδιαφέροντα των άλλων.</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εγκατάστασης</a:t>
            </a:r>
            <a:endParaRPr b="0" lang="en-US" sz="4300" spc="-1" strike="noStrike">
              <a:solidFill>
                <a:srgbClr val="572314"/>
              </a:solidFill>
              <a:latin typeface="Corbel"/>
            </a:endParaRPr>
          </a:p>
        </p:txBody>
      </p:sp>
      <p:sp>
        <p:nvSpPr>
          <p:cNvPr id="36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Στο Επίπεδο 3 το παιδί αποφασίζει, ότι πρόκειται να αντιμετωπίζει τους άλλους με τον τρόπο που επιθυμεί να το αντιμετωπίζουν.</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Το παιδί πρέπει να είναι ικανό για αφηρημένη σκέψη και για την κατανόηση της άποψης του άλλου.</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εγκατάστασης</a:t>
            </a:r>
            <a:endParaRPr b="0" lang="en-US" sz="4300" spc="-1" strike="noStrike">
              <a:solidFill>
                <a:srgbClr val="572314"/>
              </a:solidFill>
              <a:latin typeface="Corbel"/>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ea typeface="Times New Roman"/>
              </a:rPr>
              <a:t>Στο Επίπεδο 4, το παιδί εστιάζει στο να ακολουθεί εξωτερικούς κανόνες και ρυθμίσεις. </a:t>
            </a:r>
            <a:endParaRPr b="0" lang="en-US" sz="30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ea typeface="Times New Roman"/>
              </a:rPr>
              <a:t>Το παιδί έχει μάθει, ότι δεν είναι πρόθυμοι όλοι οι άνθρωποι να υιοθετήσουν την αλτρουιστική οπτική του προηγουμένου επιπέδου και ότι οι αντικειμενικοί και οι υποκειμενικοί κανόνες έχουν δημιουργηθεί για το καλό όλων.</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Φάση εξισορρόπησης</a:t>
            </a:r>
            <a:endParaRPr b="0" lang="en-US" sz="4300" spc="-1" strike="noStrike">
              <a:solidFill>
                <a:srgbClr val="572314"/>
              </a:solidFill>
              <a:latin typeface="Corbel"/>
            </a:endParaRPr>
          </a:p>
        </p:txBody>
      </p:sp>
      <p:sp>
        <p:nvSpPr>
          <p:cNvPr id="371" name=""/>
          <p:cNvSpPr txBox="1"/>
          <p:nvPr/>
        </p:nvSpPr>
        <p:spPr>
          <a:xfrm>
            <a:off x="1434960" y="1447560"/>
            <a:ext cx="7499520" cy="52210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ea typeface="Times New Roman"/>
              </a:rPr>
              <a:t>Σ’ αυτή τη φάση, το παιδί επιδιώκει την ισορροπία στο δούναι και λαβείν (ηθική ισορροπία). </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ea typeface="Times New Roman"/>
              </a:rPr>
              <a:t>Το άτομο θεωρεί ότι θα ήταν καλύτερο για όλους τους ανθρώπους που εμπλέκονται, να συμμετέχουν ανεξαρτήτως της ύπαρξης κανόνων. </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ea typeface="Times New Roman"/>
              </a:rPr>
              <a:t>Το άτομο αναγνωρίζει τα δικαιώματα και τις ανάγκες όλων και επιδιώκει τις ηθικές ισορροπίες που μεγιστοποιούν τα αμοιβαία οφέλη όλων. </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l-GR" sz="3900" spc="-1" strike="noStrike">
                <a:solidFill>
                  <a:srgbClr val="572314"/>
                </a:solidFill>
                <a:latin typeface="Corbel"/>
              </a:rPr>
              <a:t>Εφαρμογές της θεωρίας στην πράξη</a:t>
            </a:r>
            <a:endParaRPr b="0" lang="en-US" sz="3900" spc="-1" strike="noStrike">
              <a:solidFill>
                <a:srgbClr val="572314"/>
              </a:solidFill>
              <a:latin typeface="Corbel"/>
            </a:endParaRPr>
          </a:p>
        </p:txBody>
      </p:sp>
      <p:sp>
        <p:nvSpPr>
          <p:cNvPr id="373" name=""/>
          <p:cNvSpPr txBox="1"/>
          <p:nvPr/>
        </p:nvSpPr>
        <p:spPr>
          <a:xfrm>
            <a:off x="1142640" y="1571400"/>
            <a:ext cx="7791480" cy="507204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Τα άτομα χρησιμοποιούν σταδιακά υψηλότερα επίπεδα ηθικού συλλογισμού καθώς αυξάνεται η γνωστική ανάπτυξη, και καθώς δίνονται καθοδηγούμενες ευκαιρίες σ’ αυτά να επιλύουν ηθικά διλήμματα.</a:t>
            </a:r>
            <a:endParaRPr b="0" lang="en-US" sz="27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Δεν φθάνουν όλοι στα ανώτερα επίπεδα ηθικού συλλογισμού. </a:t>
            </a:r>
            <a:endParaRPr b="0" lang="en-US" sz="27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Δεν χρησιμοποιούν πάντοτε το ανώτερο επίπεδο ηθικού συλλογισμού που μπορούν. Ένα άτομο μπορεί να επιλέξει να χρησιμοποιήσει ένα λιγότερο προχωρημένο επίπεδο συλλογισμού, ακόμη και όταν είναι ικανό για ανώτερα επίπεδα.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Παιδαγωγικό κλίμα προπόνησης</a:t>
            </a:r>
            <a:endParaRPr b="0" lang="en-US" sz="3900" spc="-1" strike="noStrike">
              <a:solidFill>
                <a:srgbClr val="572314"/>
              </a:solidFill>
              <a:latin typeface="Corbel"/>
            </a:endParaRPr>
          </a:p>
        </p:txBody>
      </p:sp>
      <p:sp>
        <p:nvSpPr>
          <p:cNvPr id="375" name=""/>
          <p:cNvSpPr txBox="1"/>
          <p:nvPr/>
        </p:nvSpPr>
        <p:spPr>
          <a:xfrm>
            <a:off x="1357200" y="1447560"/>
            <a:ext cx="75772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Δράσεις με βάση τη θεωρία της κοινωνικής μάθησης</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Δράσεις με βάση τις δομικές προσεγγίσεις</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Συνδυαστικά προγράμματ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Κλίμα κινήτρω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300" spc="-1" strike="noStrike">
              <a:solidFill>
                <a:srgbClr val="572314"/>
              </a:solidFill>
              <a:latin typeface="Corbel"/>
            </a:endParaRPr>
          </a:p>
        </p:txBody>
      </p:sp>
      <p:sp>
        <p:nvSpPr>
          <p:cNvPr id="3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orbel"/>
            </a:endParaRPr>
          </a:p>
        </p:txBody>
      </p:sp>
      <p:sp>
        <p:nvSpPr>
          <p:cNvPr id="378" name="WordArt 4"/>
          <p:cNvSpPr txBox="1"/>
          <p:nvPr/>
        </p:nvSpPr>
        <p:spPr>
          <a:xfrm>
            <a:off x="857160" y="1571760"/>
            <a:ext cx="7543800" cy="198108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Σας ευχαριστώ</a:t>
            </a:r>
            <a:endParaRPr b="0" lang="en-US" sz="1800" spc="1" strike="noStrike">
              <a:ln w="9360">
                <a:solidFill>
                  <a:srgbClr val="000000"/>
                </a:solidFill>
                <a:miter/>
              </a:ln>
              <a:solidFill>
                <a:srgbClr val="000000"/>
              </a:solidFill>
              <a:latin typeface="Arial Black"/>
              <a:ea typeface="Arial Black"/>
            </a:endParaRPr>
          </a:p>
        </p:txBody>
      </p:sp>
      <p:sp>
        <p:nvSpPr>
          <p:cNvPr id="379" name="WordArt 5"/>
          <p:cNvSpPr txBox="1"/>
          <p:nvPr/>
        </p:nvSpPr>
        <p:spPr>
          <a:xfrm>
            <a:off x="785880" y="3429000"/>
            <a:ext cx="7848360" cy="1525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Greek"/>
              </a:rPr>
              <a:t>για την προσοχή σας</a:t>
            </a:r>
            <a:endParaRPr b="0" lang="en-US" sz="1800" spc="1" strike="noStrike">
              <a:ln w="9360">
                <a:solidFill>
                  <a:srgbClr val="000000"/>
                </a:solidFill>
                <a:miter/>
              </a:ln>
              <a:solidFill>
                <a:srgbClr val="000000"/>
              </a:solidFill>
              <a:latin typeface="Times New Roman Greek"/>
              <a:ea typeface="Times New Roman Gree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Αθλητισμός και ηθική ανάπτυξη</a:t>
            </a:r>
            <a:endParaRPr b="0" lang="en-US" sz="3900" spc="-1" strike="noStrike">
              <a:solidFill>
                <a:srgbClr val="572314"/>
              </a:solidFill>
              <a:latin typeface="Corbel"/>
            </a:endParaRPr>
          </a:p>
        </p:txBody>
      </p:sp>
      <p:sp>
        <p:nvSpPr>
          <p:cNvPr id="323"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a:t>
            </a:r>
            <a:r>
              <a:rPr b="0" lang="el-GR" sz="3200" spc="-1" strike="noStrike">
                <a:solidFill>
                  <a:srgbClr val="000000"/>
                </a:solidFill>
                <a:latin typeface="Corbel"/>
              </a:rPr>
              <a:t>Ο αθλητισμός διαπλάθει χαρακτήρες’</a:t>
            </a:r>
            <a:endParaRPr b="0" lang="en-US" sz="32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a:t>
            </a:r>
            <a:r>
              <a:rPr b="0" lang="el-GR" sz="3200" spc="-1" strike="noStrike">
                <a:solidFill>
                  <a:srgbClr val="000000"/>
                </a:solidFill>
                <a:latin typeface="Corbel"/>
              </a:rPr>
              <a:t>Ο αθλητισμός σε κάνει σωστό άνθρωπο’</a:t>
            </a:r>
            <a:endParaRPr b="0" lang="en-US" sz="32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a:t>
            </a:r>
            <a:r>
              <a:rPr b="0" lang="el-GR" sz="3200" spc="-1" strike="noStrike">
                <a:solidFill>
                  <a:srgbClr val="000000"/>
                </a:solidFill>
                <a:latin typeface="Corbel"/>
              </a:rPr>
              <a:t>Ο αθλητισμός προάγει την εντιμότητα’</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Αθλητισμός και ηθική ανάπτυξη</a:t>
            </a:r>
            <a:endParaRPr b="0" lang="en-US" sz="3900" spc="-1" strike="noStrike">
              <a:solidFill>
                <a:srgbClr val="572314"/>
              </a:solidFill>
              <a:latin typeface="Corbel"/>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Ανταγωνισμός</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Μετάλλι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Χρήματ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Δόξ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itius, altius, fortiu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Αθλητισμός και ηθική ανάπτυξη</a:t>
            </a:r>
            <a:endParaRPr b="0" lang="en-US" sz="3900" spc="-1" strike="noStrike">
              <a:solidFill>
                <a:srgbClr val="572314"/>
              </a:solidFill>
              <a:latin typeface="Corbel"/>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Ανταγωνισμός</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Μετάλλι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Χρήματ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Δόξ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itius, altius, fortius</a:t>
            </a:r>
            <a:endParaRPr b="0" lang="en-US" sz="3200" spc="-1" strike="noStrike">
              <a:solidFill>
                <a:srgbClr val="000000"/>
              </a:solidFill>
              <a:latin typeface="Corbel"/>
            </a:endParaRPr>
          </a:p>
        </p:txBody>
      </p:sp>
      <p:sp>
        <p:nvSpPr>
          <p:cNvPr id="328" name="3 - Δεξιό άγκιστρο"/>
          <p:cNvSpPr/>
          <p:nvPr/>
        </p:nvSpPr>
        <p:spPr>
          <a:xfrm>
            <a:off x="4714920" y="1500120"/>
            <a:ext cx="1214280" cy="3643560"/>
          </a:xfrm>
          <a:custGeom>
            <a:avLst/>
            <a:gdLst>
              <a:gd name="textAreaLeft" fmla="*/ 0 w 1214280"/>
              <a:gd name="textAreaRight" fmla="*/ 438480 w 1214280"/>
              <a:gd name="textAreaTop" fmla="*/ 31320 h 3643560"/>
              <a:gd name="textAreaBottom" fmla="*/ 3612240 h 364356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4 - TextBox"/>
          <p:cNvSpPr/>
          <p:nvPr/>
        </p:nvSpPr>
        <p:spPr>
          <a:xfrm>
            <a:off x="6143760" y="1857240"/>
            <a:ext cx="2600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Πως συνδέονται με την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ηθική ανάπτυξ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Αθλητισμός και ηθική ανάπτυξη</a:t>
            </a:r>
            <a:endParaRPr b="0" lang="en-US" sz="3900" spc="-1" strike="noStrike">
              <a:solidFill>
                <a:srgbClr val="572314"/>
              </a:solidFill>
              <a:latin typeface="Corbel"/>
            </a:endParaRPr>
          </a:p>
        </p:txBody>
      </p:sp>
      <p:sp>
        <p:nvSpPr>
          <p:cNvPr id="331"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Η συμμετοχή σε αθλητικές δραστηριότητες δεν προάγει την ηθική ανάπτυξη του ατόμου.</a:t>
            </a:r>
            <a:endParaRPr b="0" lang="en-US" sz="32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Χρειάζονται συγκεκριμένες δράσεις για την προαγωγή της ηθικής ανάπτυξης</a:t>
            </a:r>
            <a:endParaRPr b="0" lang="en-US" sz="32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Δημιουργία παιδαγωγικά ορθού κλίματος προπόνηση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Πυλώνες της ηθικής ανάπτυξης</a:t>
            </a:r>
            <a:endParaRPr b="0" lang="en-US" sz="4300" spc="-1" strike="noStrike">
              <a:solidFill>
                <a:srgbClr val="572314"/>
              </a:solidFill>
              <a:latin typeface="Corbel"/>
            </a:endParaRPr>
          </a:p>
        </p:txBody>
      </p:sp>
      <p:sp>
        <p:nvSpPr>
          <p:cNvPr id="333" name=""/>
          <p:cNvSpPr txBox="1"/>
          <p:nvPr/>
        </p:nvSpPr>
        <p:spPr>
          <a:xfrm>
            <a:off x="1357200" y="1856880"/>
            <a:ext cx="7499520" cy="444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Η (αθλητική) εντιμότητα</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Ο ηθικός συλλογισμός</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572314"/>
                </a:solidFill>
                <a:latin typeface="Corbel"/>
              </a:rPr>
              <a:t>Αθλητική εντιμότητα</a:t>
            </a:r>
            <a:endParaRPr b="0" lang="en-US" sz="4300" spc="-1" strike="noStrike">
              <a:solidFill>
                <a:srgbClr val="572314"/>
              </a:solidFill>
              <a:latin typeface="Corbel"/>
            </a:endParaRPr>
          </a:p>
        </p:txBody>
      </p:sp>
      <p:sp>
        <p:nvSpPr>
          <p:cNvPr id="335" name=""/>
          <p:cNvSpPr txBox="1"/>
          <p:nvPr/>
        </p:nvSpPr>
        <p:spPr>
          <a:xfrm>
            <a:off x="304920" y="1554120"/>
            <a:ext cx="8686800" cy="5114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Η </a:t>
            </a:r>
            <a:r>
              <a:rPr b="1" lang="el-GR" sz="3200" spc="-1" strike="noStrike">
                <a:solidFill>
                  <a:srgbClr val="000000"/>
                </a:solidFill>
                <a:latin typeface="Calibri"/>
                <a:ea typeface="Times New Roman"/>
              </a:rPr>
              <a:t>αθλητική εντιμότητα</a:t>
            </a:r>
            <a:r>
              <a:rPr b="0" lang="el-GR" sz="3200" spc="-1" strike="noStrike">
                <a:solidFill>
                  <a:srgbClr val="000000"/>
                </a:solidFill>
                <a:latin typeface="Calibri"/>
                <a:ea typeface="Times New Roman"/>
              </a:rPr>
              <a:t> περιλαμβάνει προκοινωνικές συμπεριφορές, συμπεριφορές τις οποίες η κοινωνία θεωρεί γενικά επιθυμητές και που βοηθούν το άτομο να λειτουργεί στην κοινωνία και να συνεισφέρει σ’ αυτήν.</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ea typeface="Times New Roman"/>
              </a:rPr>
              <a:t>Συνεργασία, γενναιοδωρία, συμπόνια, τιμιότητα και αρωγή</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572314"/>
                </a:solidFill>
                <a:latin typeface="Corbel"/>
              </a:rPr>
              <a:t>Είδη προκοινωνικών συμπεριφορών</a:t>
            </a:r>
            <a:endParaRPr b="0" lang="en-US" sz="3900" spc="-1" strike="noStrike">
              <a:solidFill>
                <a:srgbClr val="572314"/>
              </a:solidFill>
              <a:latin typeface="Corbel"/>
            </a:endParaRPr>
          </a:p>
        </p:txBody>
      </p:sp>
      <p:sp>
        <p:nvSpPr>
          <p:cNvPr id="337" name=""/>
          <p:cNvSpPr txBox="1"/>
          <p:nvPr/>
        </p:nvSpPr>
        <p:spPr>
          <a:xfrm>
            <a:off x="1042560" y="1447560"/>
            <a:ext cx="7891560" cy="5221080"/>
          </a:xfrm>
          <a:prstGeom prst="rect">
            <a:avLst/>
          </a:prstGeom>
          <a:noFill/>
          <a:ln w="0">
            <a:noFill/>
          </a:ln>
        </p:spPr>
        <p:txBody>
          <a:bodyPr anchor="t">
            <a:normAutofit/>
          </a:bodyPr>
          <a:p>
            <a:pPr marL="343080" indent="-343080" algn="just">
              <a:lnSpc>
                <a:spcPct val="95000"/>
              </a:lnSpc>
              <a:spcBef>
                <a:spcPts val="601"/>
              </a:spcBef>
              <a:spcAft>
                <a:spcPts val="1001"/>
              </a:spcAft>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σεβασμός στις αρχές και στους κανόνες (π.χ., να είσαι τίμιος, να μην «κλέβεις»)</a:t>
            </a:r>
            <a:endParaRPr b="0" lang="en-US" sz="2700" spc="-1" strike="noStrike">
              <a:solidFill>
                <a:srgbClr val="000000"/>
              </a:solidFill>
              <a:latin typeface="Corbel"/>
            </a:endParaRPr>
          </a:p>
          <a:p>
            <a:pPr marL="343080" indent="-343080" algn="just">
              <a:lnSpc>
                <a:spcPct val="95000"/>
              </a:lnSpc>
              <a:spcBef>
                <a:spcPts val="601"/>
              </a:spcBef>
              <a:spcAft>
                <a:spcPts val="1001"/>
              </a:spcAft>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σωστές αντιδράσεις στη νίκη και στην ήττα (π.χ., μην καυχιέσαι όταν κερδίζεις, μη γίνεσαι παρανοϊκός, μη κλαις ή μη βρίσκεις δικαιολογίες όταν χάνεις).</a:t>
            </a:r>
            <a:endParaRPr b="0" lang="en-US" sz="2700" spc="-1" strike="noStrike">
              <a:solidFill>
                <a:srgbClr val="000000"/>
              </a:solidFill>
              <a:latin typeface="Corbel"/>
            </a:endParaRPr>
          </a:p>
          <a:p>
            <a:pPr marL="343080" indent="-343080" algn="just">
              <a:lnSpc>
                <a:spcPct val="95000"/>
              </a:lnSpc>
              <a:spcBef>
                <a:spcPts val="601"/>
              </a:spcBef>
              <a:spcAft>
                <a:spcPts val="1001"/>
              </a:spcAft>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δείξε ευαισθησία στους άλλους (π.χ., να εναλλάσσεστε στη σειρά, μη χτυπάτε τους άλλους και μη τους βρίζετε, μη τους κοροϊδεύετε) και</a:t>
            </a:r>
            <a:endParaRPr b="0" lang="en-US" sz="2700" spc="-1" strike="noStrike">
              <a:solidFill>
                <a:srgbClr val="000000"/>
              </a:solidFill>
              <a:latin typeface="Corbel"/>
            </a:endParaRPr>
          </a:p>
          <a:p>
            <a:pPr marL="343080" indent="-343080" algn="just">
              <a:lnSpc>
                <a:spcPct val="95000"/>
              </a:lnSpc>
              <a:spcBef>
                <a:spcPts val="601"/>
              </a:spcBef>
              <a:spcAft>
                <a:spcPts val="1001"/>
              </a:spcAft>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ea typeface="Times New Roman"/>
              </a:rPr>
              <a:t>να δίνετε τον καλύτερο σας εαυτό (π.χ., να προσπαθείτε σκληρά, να μη τα παρατάτε).</a:t>
            </a:r>
            <a:endParaRPr b="0" lang="en-US" sz="2700" spc="-1" strike="noStrike">
              <a:solidFill>
                <a:srgbClr val="000000"/>
              </a:solidFill>
              <a:latin typeface="Corbel"/>
            </a:endParaRPr>
          </a:p>
          <a:p>
            <a:pPr marL="343080" indent="-343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8:56:18Z</dcterms:created>
  <dc:creator>user</dc:creator>
  <dc:description/>
  <dc:language>en-US</dc:language>
  <cp:lastModifiedBy>user</cp:lastModifiedBy>
  <dcterms:modified xsi:type="dcterms:W3CDTF">2017-09-11T05:58:48Z</dcterms:modified>
  <cp:revision>12</cp:revision>
  <dc:subject/>
  <dc:title>ΗΘΙΚΗ ΑΝΑΠΤΥΞΗ</dc:title>
</cp:coreProperties>
</file>