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C0B7E-5A6F-4D8C-BF3B-DE706F5D0981}"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3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91E4-1C8A-4DB7-85B3-67CEC45459E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DACCC-58B4-40D8-BE59-1B739D9B1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47C60-7473-485D-8422-23D5F8345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67B5F-E970-4150-87AD-40922BA3B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1E01D-D68A-40F8-9A06-89CBAF47A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85D0C8-BCA7-451F-960F-33D450117C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26170-13D7-44ED-BE57-A3F0F631C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3656D-F5E5-43A0-937E-9A1909593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36F48-2032-4808-A5DB-399EFAA86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FB191-A890-46D9-9671-ECD82E3F2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91A5C-DEF9-4B78-A230-9A7AABE85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303FA-3E24-4C7C-A37F-D159A436D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ACDFB-ED30-4529-8C99-1C99285EA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6511D-73C3-4659-9E88-6ABEAAEED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93B0F-DB55-40D3-9E3F-512B42274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4B7F8-8E22-463D-A078-68D469C9B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C597BE-EAEF-4697-B83C-212C0CA555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BF4F93-E31C-4DE1-BA30-D34691253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48A6F1-CB58-4D87-8A22-597DB9518C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A15797-E3FE-4197-A785-3EA99429FF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2B89E3-F970-406D-A675-42C5CC285B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AED7F1-1D0D-4F6D-AADA-9D22BA4E44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A6204C-8904-4D48-9FC2-F196D4E4FD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92A4B-ADE6-46DF-963E-B7A6120E4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B96A04-EE12-498F-A20F-1FF465E1BA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253D87-4101-44F7-A1DB-6D4D2A242C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C30291-F37A-49D3-99C6-DB7968838C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B82DA5-EB8C-42EC-87E3-56E1225096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285EF3-5B09-48D6-A49F-2EC6C88212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10CC5A-7C43-497D-9218-D3570BC57F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532C33-A8BD-4C78-9D5C-55D226C61B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AD2271-7A75-48EA-B071-1CA2BB1443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A9B322-1A77-4D6E-B265-9D455F4891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860673-5792-457F-AF54-416111DA16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41EE0-D9B9-4054-83B2-E56F05FAA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D9CBC6-3557-421F-9E5C-D27D5C521F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BF11A8-7B98-4D2B-BF3D-03EFC21D81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2F0BB5-CDFF-454F-AEEF-42BC8A17FE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552A55-FB29-4BAC-AD77-81A42ECC0F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C98787-CF4E-43D1-A6CD-EB829AAA34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F01BE3-6DE5-4A1D-B375-45000A7603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AF4B92-8298-4DCF-9BEB-16692ED112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3C1830-32C9-4012-BBFE-BAE6D5534D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3066F6-1589-4BBB-8E8F-DD59EBBFE0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14E1AC-1806-4988-B71A-C4F10F0282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58885-0BC8-4D3D-98CC-F0A739B9F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EA03E7-2CB1-4B2F-A7A8-EFFC8F4404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467572-18A7-4AF0-AEAC-C1A43B888C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900E9E-423A-4483-B3E1-53AE2A61AD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B85C65-8A30-4D34-8737-4A77F6B97A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0B5679-AAA0-4ADC-9E41-AF1E07B36D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B19DDA-CC2A-45D4-BACC-91B5AA9EC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B52B22-9826-4A7E-B518-8477FA71EB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EFBC3C-06F9-4F32-8632-B66532FCD7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008E1A-D2F4-4CAA-9AD8-65C1783174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977D4C-09FB-4397-83B2-89673C71D3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0A92A-31E3-4D79-A350-D1A79B920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88FF51-4083-4885-8DE1-26D72746CA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2168AE-461F-42A1-B669-D31FF77E1A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4CCFF1-446D-401F-A1C8-93754C5A19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90B7C5-160E-4FDF-9665-61512A6FC4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6498D2-2780-42F5-9CC2-BD5D22D70D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F9D130-45FF-4038-BC7E-ABDFC06E60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49B9C0-0B10-420A-8A52-A7D68B55D7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1C6D0D-713E-43F2-A194-3DF3EAB25B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FF5F2A-FAA2-4F79-B849-7A4CFC0863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2D351F-46D2-40C2-8FE2-53EC2101F3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A75AF-28E6-428D-9B52-1415576E3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27CA94-DBF0-45D5-8D6F-E9B9ACAFEA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82DCB1-B327-4076-A648-993D2BCCC4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05022D-9B41-4E30-B620-D63AF4061F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4BF158-B437-435C-BB28-D6DF3DC51D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BA2EBE-0890-4F8D-A28B-56A52D4C75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20EB29-61A1-49EF-B3F8-3BADD21F8A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80F650-34D4-4207-9F33-3B54570E40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82F0A8-ADED-4FA2-850B-AC93093D82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AE4849-C9C5-4B33-97C5-10D8711644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6675EA-42C1-4FE8-BA30-304013AA7D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21575-56C9-4405-8D89-A406A1200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DD3879-1C59-43B6-BDA6-22693EAC09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289BAB-A833-414E-9B4B-24F0CD8BDF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B529E1-7060-4740-AAD4-DA4910D76D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AE96A4-7BBD-4BEC-B5EF-D063DE42CC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D082E2-1B0A-49A7-924C-37D3B754E3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9DB887-EA20-4113-8C60-484A5B92EF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D414D5-09E4-45FD-A812-AAD5770718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222426-7C2E-45E5-8328-B1921A0EFF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B7DF52-5A83-4F46-853D-2481FEFC6B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39BEC0-0599-4785-8AF3-F0762357D7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B1440-656F-4745-A578-FB163EC8A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E7AD98-244B-45B3-9FA5-38A83F2587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574DC5-5BE8-4D89-BF73-E8B3DA18E9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4E72A6-C026-4E2F-9D39-C15C0D16BE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DC2BF1-8395-445B-A904-E8799F2C5C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EFFC11-6C89-4E30-BD29-3D1F0FEE5C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33E3F3-FF51-403D-9EAE-C68F38E95B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8D1DAF-05FB-4AA8-9153-FFFD1E64197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 Ελεύθερη σχεδίαση"/>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 Ελεύθερη σχεδίαση"/>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 Ορθογώνιο τρίγωνο"/>
          <p:cNvGrpSpPr/>
          <p:nvPr/>
        </p:nvGrpSpPr>
        <p:grpSpPr>
          <a:xfrm>
            <a:off x="-6480" y="5791320"/>
            <a:ext cx="3402000" cy="1079280"/>
            <a:chOff x="-6480" y="5791320"/>
            <a:chExt cx="3402000" cy="1079280"/>
          </a:xfrm>
        </p:grpSpPr>
        <p:pic>
          <p:nvPicPr>
            <p:cNvPr id="3" name="13 - Ορθογώνιο τρίγωνο"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 Ευθεία γραμμή σύνδεσης"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B526E-2F3E-46CE-9795-C4396951A776}" type="slidenum">
              <a:rPr b="0" lang="el-G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 Ορθογώνιο τρίγωνο"/>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 Ομάδα"/>
          <p:cNvGrpSpPr/>
          <p:nvPr/>
        </p:nvGrpSpPr>
        <p:grpSpPr>
          <a:xfrm>
            <a:off x="-3240" y="4952880"/>
            <a:ext cx="9147240" cy="1911600"/>
            <a:chOff x="-3240" y="4952880"/>
            <a:chExt cx="9147240" cy="1911600"/>
          </a:xfrm>
        </p:grpSpPr>
        <p:sp>
          <p:nvSpPr>
            <p:cNvPr id="49" name="16 - Ελεύθερη σχεδίαση"/>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 Ελεύθερη σχεδίαση"/>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 Ελεύθερη σχεδίαση"/>
            <p:cNvGrpSpPr/>
            <p:nvPr/>
          </p:nvGrpSpPr>
          <p:grpSpPr>
            <a:xfrm>
              <a:off x="8640" y="4998600"/>
              <a:ext cx="9129240" cy="1865880"/>
              <a:chOff x="8640" y="4998600"/>
              <a:chExt cx="9129240" cy="1865880"/>
            </a:xfrm>
          </p:grpSpPr>
          <p:pic>
            <p:nvPicPr>
              <p:cNvPr id="52" name="19 - Ελεύθερη σχεδίαση"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 Ευθεία γραμμή σύνδεσης"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E70E-D6F4-4371-9817-D5705EBF89EC}" type="slidenum">
              <a:rPr b="0" lang="el-GR"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 Ελεύθερη σχεδίαση"/>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 Ελεύθερη σχεδίαση"/>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 Ορθογώνιο τρίγωνο"/>
          <p:cNvGrpSpPr/>
          <p:nvPr/>
        </p:nvGrpSpPr>
        <p:grpSpPr>
          <a:xfrm>
            <a:off x="-6480" y="5791320"/>
            <a:ext cx="3402000" cy="1079280"/>
            <a:chOff x="-6480" y="5791320"/>
            <a:chExt cx="3402000" cy="1079280"/>
          </a:xfrm>
        </p:grpSpPr>
        <p:pic>
          <p:nvPicPr>
            <p:cNvPr id="99" name="13 - Ορθογώνιο τρίγωνο"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 Ευθεία γραμμή σύνδεσης" descr=""/>
          <p:cNvPicPr/>
          <p:nvPr/>
        </p:nvPicPr>
        <p:blipFill>
          <a:blip r:embed="rId4"/>
          <a:stretch/>
        </p:blipFill>
        <p:spPr>
          <a:xfrm>
            <a:off x="-19080" y="5778360"/>
            <a:ext cx="3421080" cy="1098720"/>
          </a:xfrm>
          <a:prstGeom prst="rect">
            <a:avLst/>
          </a:prstGeom>
          <a:ln w="0">
            <a:noFill/>
          </a:ln>
        </p:spPr>
      </p:pic>
      <p:sp>
        <p:nvSpPr>
          <p:cNvPr id="102" name="10 - Διάσημα"/>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 Διάσημα"/>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D9190-3122-4C4F-A07E-68C0D17B0489}" type="slidenum">
              <a:rPr b="0" lang="el-G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 Ελεύθερη σχεδίαση"/>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 Ελεύθερη σχεδίαση"/>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 Ορθογώνιο τρίγωνο"/>
          <p:cNvGrpSpPr/>
          <p:nvPr/>
        </p:nvGrpSpPr>
        <p:grpSpPr>
          <a:xfrm>
            <a:off x="-6480" y="5791320"/>
            <a:ext cx="3402000" cy="1079280"/>
            <a:chOff x="-6480" y="5791320"/>
            <a:chExt cx="3402000" cy="1079280"/>
          </a:xfrm>
        </p:grpSpPr>
        <p:pic>
          <p:nvPicPr>
            <p:cNvPr id="148" name="13 - Ορθογώνιο τρίγωνο"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 Ευθεία γραμμή σύνδεσης"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EDB4-F1C4-42ED-9C19-FD31E6A014F5}" type="slidenum">
              <a:rPr b="0" lang="el-G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F4BF-83AB-4400-B16A-15BE8B31E582}" type="slidenum">
              <a:rPr b="0" lang="el-G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 Ελεύθερη σχεδίαση"/>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 Ελεύθερη σχεδίαση"/>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 Ορθογώνιο τρίγωνο"/>
          <p:cNvGrpSpPr/>
          <p:nvPr/>
        </p:nvGrpSpPr>
        <p:grpSpPr>
          <a:xfrm>
            <a:off x="-6480" y="5791320"/>
            <a:ext cx="3402000" cy="1079280"/>
            <a:chOff x="-6480" y="5791320"/>
            <a:chExt cx="3402000" cy="1079280"/>
          </a:xfrm>
        </p:grpSpPr>
        <p:pic>
          <p:nvPicPr>
            <p:cNvPr id="236" name="13 - Ορθογώνιο τρίγωνο"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 Ευθεία γραμμή σύνδεσης"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2E1D-7A80-4A63-B826-BEF2AD485D69}" type="slidenum">
              <a:rPr b="0" lang="el-G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7B6B8-B0E6-4357-9025-46854ACCD9BB}" type="slidenum">
              <a:rPr b="0" lang="el-G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 Ελεύθερη σχεδίαση"/>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 Ελεύθερη σχεδίαση"/>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 Ορθογώνιο τρίγωνο"/>
          <p:cNvGrpSpPr/>
          <p:nvPr/>
        </p:nvGrpSpPr>
        <p:grpSpPr>
          <a:xfrm>
            <a:off x="-6480" y="5791320"/>
            <a:ext cx="3402000" cy="1079280"/>
            <a:chOff x="-6480" y="5791320"/>
            <a:chExt cx="3402000" cy="1079280"/>
          </a:xfrm>
        </p:grpSpPr>
        <p:pic>
          <p:nvPicPr>
            <p:cNvPr id="324" name="16 - Ορθογώνιο τρίγωνο"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 Ευθεία γραμμή σύνδεσης" descr=""/>
          <p:cNvPicPr/>
          <p:nvPr/>
        </p:nvPicPr>
        <p:blipFill>
          <a:blip r:embed="rId4"/>
          <a:stretch/>
        </p:blipFill>
        <p:spPr>
          <a:xfrm>
            <a:off x="-19080" y="5778360"/>
            <a:ext cx="3421080" cy="1098720"/>
          </a:xfrm>
          <a:prstGeom prst="rect">
            <a:avLst/>
          </a:prstGeom>
          <a:ln w="0">
            <a:noFill/>
          </a:ln>
        </p:spPr>
      </p:pic>
      <p:sp>
        <p:nvSpPr>
          <p:cNvPr id="327" name="19 - Διάσημα"/>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 Διάσημα"/>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3467-B69C-41AB-B835-B38C343FBB5A}" type="slidenum">
              <a:rPr b="0" lang="el-G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Τίτλος 1" descr=""/>
          <p:cNvPicPr/>
          <p:nvPr/>
        </p:nvPicPr>
        <p:blipFill>
          <a:blip r:embed="rId1"/>
          <a:stretch/>
        </p:blipFill>
        <p:spPr>
          <a:xfrm>
            <a:off x="469800" y="835200"/>
            <a:ext cx="7772400" cy="1469880"/>
          </a:xfrm>
          <a:prstGeom prst="rect">
            <a:avLst/>
          </a:prstGeom>
          <a:ln w="0">
            <a:noFill/>
          </a:ln>
        </p:spPr>
      </p:pic>
      <p:sp>
        <p:nvSpPr>
          <p:cNvPr id="378" name="PlaceHolder 1"/>
          <p:cNvSpPr>
            <a:spLocks noGrp="1"/>
          </p:cNvSpPr>
          <p:nvPr>
            <p:ph type="subTitle"/>
          </p:nvPr>
        </p:nvSpPr>
        <p:spPr>
          <a:xfrm>
            <a:off x="2357280" y="4285800"/>
            <a:ext cx="6400800" cy="17528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464646"/>
                </a:solidFill>
                <a:latin typeface="Lucida Sans Unicode"/>
              </a:rPr>
              <a:t>Μπαρκούκης Βασίλης</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6" name=""/>
          <p:cNvGraphicFramePr/>
          <p:nvPr/>
        </p:nvGraphicFramePr>
        <p:xfrm>
          <a:off x="-36360" y="765000"/>
          <a:ext cx="8916840" cy="5413680"/>
        </p:xfrm>
        <a:graphic>
          <a:graphicData uri="http://schemas.openxmlformats.org/drawingml/2006/table">
            <a:tbl>
              <a:tblPr/>
              <a:tblGrid>
                <a:gridCol w="2400120"/>
                <a:gridCol w="3024360"/>
                <a:gridCol w="3492360"/>
              </a:tblGrid>
              <a:tr h="1079640">
                <a:tc>
                  <a:txBody>
                    <a:bodyPr lIns="25920" rIns="259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00" spc="-1" strike="noStrike">
                          <a:solidFill>
                            <a:srgbClr val="ffffff"/>
                          </a:solidFill>
                          <a:latin typeface="Lucida Sans Unicode"/>
                        </a:rPr>
                        <a:t>ΟΡΟΣ</a:t>
                      </a:r>
                      <a:endParaRPr b="0" lang="en-US" sz="500" spc="-1" strike="noStrike">
                        <a:solidFill>
                          <a:srgbClr val="000000"/>
                        </a:solidFill>
                        <a:latin typeface="Arial"/>
                      </a:endParaRPr>
                    </a:p>
                  </a:txBody>
                  <a:tcPr anchor="t" marL="25920" marR="2592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25920" rIns="259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00" spc="-1" strike="noStrike">
                          <a:solidFill>
                            <a:srgbClr val="ffffff"/>
                          </a:solidFill>
                          <a:latin typeface="Lucida Sans Unicode"/>
                        </a:rPr>
                        <a:t>ΟΡΙΣΜΟΣ  </a:t>
                      </a:r>
                      <a:endParaRPr b="0" lang="en-US" sz="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00" spc="-1" strike="noStrike">
                          <a:solidFill>
                            <a:srgbClr val="ffffff"/>
                          </a:solidFill>
                          <a:latin typeface="Lucida Sans Unicode"/>
                        </a:rPr>
                        <a:t> </a:t>
                      </a:r>
                      <a:endParaRPr b="0" lang="en-US" sz="500" spc="-1" strike="noStrike">
                        <a:solidFill>
                          <a:srgbClr val="000000"/>
                        </a:solidFill>
                        <a:latin typeface="Arial"/>
                      </a:endParaRPr>
                    </a:p>
                  </a:txBody>
                  <a:tcPr anchor="t" marL="25920" marR="2592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25920" rIns="259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00" spc="-1" strike="noStrike">
                          <a:solidFill>
                            <a:srgbClr val="ffffff"/>
                          </a:solidFill>
                          <a:latin typeface="Lucida Sans Unicode"/>
                        </a:rPr>
                        <a:t>ΠΑΡΑΔΕΙΓΜΑΤΑ</a:t>
                      </a:r>
                      <a:endParaRPr b="0" lang="en-US" sz="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00" spc="-1" strike="noStrike">
                          <a:solidFill>
                            <a:srgbClr val="ffffff"/>
                          </a:solidFill>
                          <a:latin typeface="Lucida Sans Unicode"/>
                        </a:rPr>
                        <a:t> </a:t>
                      </a:r>
                      <a:endParaRPr b="0" lang="en-US" sz="500" spc="-1" strike="noStrike">
                        <a:solidFill>
                          <a:srgbClr val="000000"/>
                        </a:solidFill>
                        <a:latin typeface="Arial"/>
                      </a:endParaRPr>
                    </a:p>
                  </a:txBody>
                  <a:tcPr anchor="t" marL="25920" marR="2592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1855800">
                <a:tc>
                  <a:txBody>
                    <a:bodyPr lIns="25920" rIns="259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Lucida Sans Unicode"/>
                        </a:rPr>
                        <a:t>Γενική</a:t>
                      </a:r>
                      <a:endParaRPr b="0" lang="en-US" sz="2000" spc="-1" strike="noStrike">
                        <a:solidFill>
                          <a:srgbClr val="000000"/>
                        </a:solidFill>
                        <a:latin typeface="Arial"/>
                      </a:endParaRPr>
                    </a:p>
                  </a:txBody>
                  <a:tcPr anchor="t" marL="25920" marR="25920">
                    <a:lnL w="5760">
                      <a:solidFill>
                        <a:srgbClr val="ffffff"/>
                      </a:solidFill>
                    </a:lnL>
                    <a:lnR w="5760">
                      <a:solidFill>
                        <a:srgbClr val="ffffff"/>
                      </a:solidFill>
                    </a:lnR>
                    <a:lnT w="18720">
                      <a:solidFill>
                        <a:srgbClr val="ffffff"/>
                      </a:solidFill>
                    </a:lnT>
                    <a:lnB w="5760">
                      <a:solidFill>
                        <a:srgbClr val="ffffff"/>
                      </a:solidFill>
                    </a:lnB>
                    <a:solidFill>
                      <a:srgbClr val="2da2bf"/>
                    </a:solidFill>
                  </a:tcPr>
                </a:tc>
                <a:tc>
                  <a:txBody>
                    <a:bodyPr lIns="25920" rIns="25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Μεταφέρει, ότι κάτι έγινε σωστά ή  λανθασμένα. Δεν αναφέρεται συγκεκριμένα στο τι ή πώς πρέπει να βελτιωθεί.</a:t>
                      </a:r>
                      <a:endParaRPr b="0" lang="en-US" sz="1600" spc="-1" strike="noStrike">
                        <a:solidFill>
                          <a:srgbClr val="000000"/>
                        </a:solidFill>
                        <a:latin typeface="Arial"/>
                      </a:endParaRPr>
                    </a:p>
                  </a:txBody>
                  <a:tcPr anchor="t" marL="25920" marR="2592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25920" rIns="25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Καλή δουλειά.»  «Σωστά.» «Λάθος.» «Μη το χτυπάς έτσι.»</a:t>
                      </a:r>
                      <a:endParaRPr b="0" lang="en-US" sz="1600" spc="-1" strike="noStrike">
                        <a:solidFill>
                          <a:srgbClr val="000000"/>
                        </a:solidFill>
                        <a:latin typeface="Arial"/>
                      </a:endParaRPr>
                    </a:p>
                  </a:txBody>
                  <a:tcPr anchor="t" marL="25920" marR="2592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2478240">
                <a:tc>
                  <a:txBody>
                    <a:bodyPr lIns="25920" rIns="259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Lucida Sans Unicode"/>
                        </a:rPr>
                        <a:t>  </a:t>
                      </a:r>
                      <a:r>
                        <a:rPr b="1" lang="el-GR" sz="2000" spc="-1" strike="noStrike">
                          <a:solidFill>
                            <a:srgbClr val="ffffff"/>
                          </a:solidFill>
                          <a:latin typeface="Lucida Sans Unicode"/>
                        </a:rPr>
                        <a:t>Ειδική</a:t>
                      </a:r>
                      <a:endParaRPr b="0" lang="en-US" sz="2000" spc="-1" strike="noStrike">
                        <a:solidFill>
                          <a:srgbClr val="000000"/>
                        </a:solidFill>
                        <a:latin typeface="Arial"/>
                      </a:endParaRPr>
                    </a:p>
                  </a:txBody>
                  <a:tcPr anchor="t" marL="25920" marR="25920">
                    <a:lnL w="5760">
                      <a:solidFill>
                        <a:srgbClr val="ffffff"/>
                      </a:solidFill>
                    </a:lnL>
                    <a:lnR w="5760">
                      <a:solidFill>
                        <a:srgbClr val="ffffff"/>
                      </a:solidFill>
                    </a:lnR>
                    <a:lnT w="5760">
                      <a:solidFill>
                        <a:srgbClr val="ffffff"/>
                      </a:solidFill>
                    </a:lnT>
                    <a:lnB w="5760">
                      <a:solidFill>
                        <a:srgbClr val="ffffff"/>
                      </a:solidFill>
                    </a:lnB>
                    <a:solidFill>
                      <a:srgbClr val="2da2bf"/>
                    </a:solidFill>
                  </a:tcPr>
                </a:tc>
                <a:tc>
                  <a:txBody>
                    <a:bodyPr lIns="25920" rIns="25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Περιγράφει ακριβώς τι έγινε σωστά ή λανθασμένα ή τον τρόπο βελτίωσης</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 </a:t>
                      </a:r>
                      <a:endParaRPr b="0" lang="en-US" sz="1600" spc="-1" strike="noStrike">
                        <a:solidFill>
                          <a:srgbClr val="000000"/>
                        </a:solidFill>
                        <a:latin typeface="Arial"/>
                      </a:endParaRPr>
                    </a:p>
                  </a:txBody>
                  <a:tcPr anchor="t" marL="25920" marR="2592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25920" rIns="25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Ωραία πάτησες στο αντίθετο πόδι.» «Δεν προχώρησες μπροστά με το αντίθετο πόδι αυτή τη φορά.» «Την επόμενη φορά φρόντισε να πατήσεις στο αντίθετο πόδι»</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 </a:t>
                      </a:r>
                      <a:endParaRPr b="0" lang="en-US" sz="1600" spc="-1" strike="noStrike">
                        <a:solidFill>
                          <a:srgbClr val="000000"/>
                        </a:solidFill>
                        <a:latin typeface="Arial"/>
                      </a:endParaRPr>
                    </a:p>
                  </a:txBody>
                  <a:tcPr anchor="t" marL="25920" marR="2592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pic>
        <p:nvPicPr>
          <p:cNvPr id="397" name="Τίτλος 1" descr=""/>
          <p:cNvPicPr/>
          <p:nvPr/>
        </p:nvPicPr>
        <p:blipFill>
          <a:blip r:embed="rId1"/>
          <a:stretch/>
        </p:blipFill>
        <p:spPr>
          <a:xfrm>
            <a:off x="457200" y="249120"/>
            <a:ext cx="8229600" cy="53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8" name=""/>
          <p:cNvGraphicFramePr/>
          <p:nvPr/>
        </p:nvGraphicFramePr>
        <p:xfrm>
          <a:off x="108000" y="3857760"/>
          <a:ext cx="8916840" cy="2643120"/>
        </p:xfrm>
        <a:graphic>
          <a:graphicData uri="http://schemas.openxmlformats.org/drawingml/2006/table">
            <a:tbl>
              <a:tblPr/>
              <a:tblGrid>
                <a:gridCol w="2400120"/>
                <a:gridCol w="3024360"/>
                <a:gridCol w="3492360"/>
              </a:tblGrid>
              <a:tr h="2643120">
                <a:tc>
                  <a:txBody>
                    <a:bodyPr lIns="25920" rIns="259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Lucida Sans Unicode"/>
                        </a:rPr>
                        <a:t>Ουδέτερη</a:t>
                      </a:r>
                      <a:endParaRPr b="0" lang="en-US" sz="2000" spc="-1" strike="noStrike">
                        <a:solidFill>
                          <a:srgbClr val="000000"/>
                        </a:solidFill>
                        <a:latin typeface="Arial"/>
                      </a:endParaRPr>
                    </a:p>
                  </a:txBody>
                  <a:tcPr anchor="t" marL="25920" marR="2592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25920" rIns="25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Δεν μεταφέρει ούτε ικανοποίηση ούτε έλλειψη ικανοποίησης (ο τόνος της φωνής μπορεί να επηρεάσει το κατά πόσον η δήλωση ανατροφοδότησης είναι θετική, αρνητική ή ουδέτερη)</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 </a:t>
                      </a:r>
                      <a:endParaRPr b="0" lang="en-US" sz="1600" spc="-1" strike="noStrike">
                        <a:solidFill>
                          <a:srgbClr val="000000"/>
                        </a:solidFill>
                        <a:latin typeface="Arial"/>
                      </a:endParaRPr>
                    </a:p>
                  </a:txBody>
                  <a:tcPr anchor="t" marL="25920" marR="2592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25920" rIns="25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Σωστά/ Λάθος.» «Το έχασες/ Το πέτυχες.»</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 </a:t>
                      </a:r>
                      <a:endParaRPr b="0" lang="en-US" sz="1600" spc="-1" strike="noStrike">
                        <a:solidFill>
                          <a:srgbClr val="000000"/>
                        </a:solidFill>
                        <a:latin typeface="Arial"/>
                      </a:endParaRPr>
                    </a:p>
                  </a:txBody>
                  <a:tcPr anchor="t" marL="25920" marR="2592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bl>
          </a:graphicData>
        </a:graphic>
      </p:graphicFrame>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100" spc="-1" strike="noStrike">
              <a:solidFill>
                <a:srgbClr val="464646"/>
              </a:solidFill>
              <a:latin typeface="Lucida Sans Unicode"/>
            </a:endParaRPr>
          </a:p>
        </p:txBody>
      </p:sp>
      <p:graphicFrame>
        <p:nvGraphicFramePr>
          <p:cNvPr id="400" name=""/>
          <p:cNvGraphicFramePr/>
          <p:nvPr/>
        </p:nvGraphicFramePr>
        <p:xfrm>
          <a:off x="127080" y="785880"/>
          <a:ext cx="8916840" cy="2971800"/>
        </p:xfrm>
        <a:graphic>
          <a:graphicData uri="http://schemas.openxmlformats.org/drawingml/2006/table">
            <a:tbl>
              <a:tblPr/>
              <a:tblGrid>
                <a:gridCol w="2400120"/>
                <a:gridCol w="3024360"/>
                <a:gridCol w="3492360"/>
              </a:tblGrid>
              <a:tr h="1289160">
                <a:tc>
                  <a:txBody>
                    <a:bodyPr lIns="25920" rIns="259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Lucida Sans Unicode"/>
                        </a:rPr>
                        <a:t>Θετική</a:t>
                      </a:r>
                      <a:endParaRPr b="0" lang="en-US" sz="2000" spc="-1" strike="noStrike">
                        <a:solidFill>
                          <a:srgbClr val="000000"/>
                        </a:solidFill>
                        <a:latin typeface="Arial"/>
                      </a:endParaRPr>
                    </a:p>
                  </a:txBody>
                  <a:tcPr anchor="t" marL="25920" marR="2592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25920" rIns="25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Επικοινωνεί ευχαρίστηση ή ικανοποίηση</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 </a:t>
                      </a:r>
                      <a:endParaRPr b="0" lang="en-US" sz="1600" spc="-1" strike="noStrike">
                        <a:solidFill>
                          <a:srgbClr val="000000"/>
                        </a:solidFill>
                        <a:latin typeface="Arial"/>
                      </a:endParaRPr>
                    </a:p>
                  </a:txBody>
                  <a:tcPr anchor="t" marL="25920" marR="2592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25920" rIns="25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Καλή δουλειά.» «Σε ευχαριστώ που έδωσες πάσα.» «Ωραία ακολούθησες την κίνηση αυτή τη φορά.»</a:t>
                      </a:r>
                      <a:endParaRPr b="0" lang="en-US" sz="1600" spc="-1" strike="noStrike">
                        <a:solidFill>
                          <a:srgbClr val="000000"/>
                        </a:solidFill>
                        <a:latin typeface="Arial"/>
                      </a:endParaRPr>
                    </a:p>
                  </a:txBody>
                  <a:tcPr anchor="t" marL="25920" marR="2592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1682640">
                <a:tc>
                  <a:txBody>
                    <a:bodyPr lIns="25920" rIns="259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Lucida Sans Unicode"/>
                        </a:rPr>
                        <a:t>Αρνητική</a:t>
                      </a:r>
                      <a:endParaRPr b="0" lang="en-US" sz="2000" spc="-1" strike="noStrike">
                        <a:solidFill>
                          <a:srgbClr val="000000"/>
                        </a:solidFill>
                        <a:latin typeface="Arial"/>
                      </a:endParaRPr>
                    </a:p>
                  </a:txBody>
                  <a:tcPr anchor="t" marL="25920" marR="25920">
                    <a:lnL w="5760">
                      <a:solidFill>
                        <a:srgbClr val="ffffff"/>
                      </a:solidFill>
                    </a:lnL>
                    <a:lnR w="5760">
                      <a:solidFill>
                        <a:srgbClr val="ffffff"/>
                      </a:solidFill>
                    </a:lnR>
                    <a:lnT w="18720">
                      <a:solidFill>
                        <a:srgbClr val="ffffff"/>
                      </a:solidFill>
                    </a:lnT>
                    <a:lnB w="5760">
                      <a:solidFill>
                        <a:srgbClr val="ffffff"/>
                      </a:solidFill>
                    </a:lnB>
                    <a:solidFill>
                      <a:srgbClr val="2da2bf"/>
                    </a:solidFill>
                  </a:tcPr>
                </a:tc>
                <a:tc>
                  <a:txBody>
                    <a:bodyPr lIns="25920" rIns="25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Επικοινωνεί δυσαρέσκεια ή έλλειψη ικανοποίησης</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 </a:t>
                      </a:r>
                      <a:endParaRPr b="0" lang="en-US" sz="1600" spc="-1" strike="noStrike">
                        <a:solidFill>
                          <a:srgbClr val="000000"/>
                        </a:solidFill>
                        <a:latin typeface="Arial"/>
                      </a:endParaRPr>
                    </a:p>
                  </a:txBody>
                  <a:tcPr anchor="t" marL="25920" marR="2592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25920" rIns="25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Σου έχω πει χίλιες φορές να πατάς με το σωστό πόδι!»  «Έχω δει μαθητές της Α΄ δημοτικού που μπορούν να δώσουν καλύτερη κλοτσιά από αυτή.»</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 </a:t>
                      </a:r>
                      <a:endParaRPr b="0" lang="en-US" sz="1600" spc="-1" strike="noStrike">
                        <a:solidFill>
                          <a:srgbClr val="000000"/>
                        </a:solidFill>
                        <a:latin typeface="Arial"/>
                      </a:endParaRPr>
                    </a:p>
                  </a:txBody>
                  <a:tcPr anchor="t" marL="25920" marR="2592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1" name=""/>
          <p:cNvGraphicFramePr/>
          <p:nvPr/>
        </p:nvGraphicFramePr>
        <p:xfrm>
          <a:off x="227160" y="260280"/>
          <a:ext cx="8916840" cy="4326120"/>
        </p:xfrm>
        <a:graphic>
          <a:graphicData uri="http://schemas.openxmlformats.org/drawingml/2006/table">
            <a:tbl>
              <a:tblPr/>
              <a:tblGrid>
                <a:gridCol w="2400120"/>
                <a:gridCol w="3024360"/>
                <a:gridCol w="3492360"/>
              </a:tblGrid>
              <a:tr h="1122480">
                <a:tc>
                  <a:txBody>
                    <a:bodyPr lIns="25920" rIns="259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Lucida Sans Unicode"/>
                        </a:rPr>
                        <a:t>Αξιολογική</a:t>
                      </a:r>
                      <a:endParaRPr b="0" lang="en-US" sz="2000" spc="-1" strike="noStrike">
                        <a:solidFill>
                          <a:srgbClr val="000000"/>
                        </a:solidFill>
                        <a:latin typeface="Arial"/>
                      </a:endParaRPr>
                    </a:p>
                  </a:txBody>
                  <a:tcPr anchor="t" marL="25920" marR="2592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25920" rIns="25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Μεταφέρει μια κρίση που αφορά στην ορθότητα της δεξιότητας</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 </a:t>
                      </a:r>
                      <a:endParaRPr b="0" lang="en-US" sz="1600" spc="-1" strike="noStrike">
                        <a:solidFill>
                          <a:srgbClr val="000000"/>
                        </a:solidFill>
                        <a:latin typeface="Arial"/>
                      </a:endParaRPr>
                    </a:p>
                  </a:txBody>
                  <a:tcPr anchor="t" marL="25920" marR="2592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25920" rIns="25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Καλή δουλειά.» «Μου αρέσει που στο τέλος τεντώνεις τελείως τα χέρια σου.»</a:t>
                      </a:r>
                      <a:endParaRPr b="0" lang="en-US" sz="1600" spc="-1" strike="noStrike">
                        <a:solidFill>
                          <a:srgbClr val="000000"/>
                        </a:solidFill>
                        <a:latin typeface="Arial"/>
                      </a:endParaRPr>
                    </a:p>
                  </a:txBody>
                  <a:tcPr anchor="t" marL="25920" marR="2592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1922400">
                <a:tc>
                  <a:txBody>
                    <a:bodyPr lIns="25920" rIns="259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Lucida Sans Unicode"/>
                        </a:rPr>
                        <a:t>Διορθωτική</a:t>
                      </a:r>
                      <a:endParaRPr b="0" lang="en-US" sz="2000" spc="-1" strike="noStrike">
                        <a:solidFill>
                          <a:srgbClr val="000000"/>
                        </a:solidFill>
                        <a:latin typeface="Arial"/>
                      </a:endParaRPr>
                    </a:p>
                  </a:txBody>
                  <a:tcPr anchor="t" marL="25920" marR="25920">
                    <a:lnL w="5760">
                      <a:solidFill>
                        <a:srgbClr val="ffffff"/>
                      </a:solidFill>
                    </a:lnL>
                    <a:lnR w="5760">
                      <a:solidFill>
                        <a:srgbClr val="ffffff"/>
                      </a:solidFill>
                    </a:lnR>
                    <a:lnT w="18720">
                      <a:solidFill>
                        <a:srgbClr val="ffffff"/>
                      </a:solidFill>
                    </a:lnT>
                    <a:lnB w="5760">
                      <a:solidFill>
                        <a:srgbClr val="ffffff"/>
                      </a:solidFill>
                    </a:lnB>
                    <a:solidFill>
                      <a:srgbClr val="2da2bf"/>
                    </a:solidFill>
                  </a:tcPr>
                </a:tc>
                <a:tc>
                  <a:txBody>
                    <a:bodyPr lIns="25920" rIns="25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Παρέχει στον μαθητευόμενο την πληροφορία σχετικά με το πώς θα εκτελέσει ορθά την κίνηση  στο μέλλον</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 </a:t>
                      </a:r>
                      <a:endParaRPr b="0" lang="en-US" sz="1600" spc="-1" strike="noStrike">
                        <a:solidFill>
                          <a:srgbClr val="000000"/>
                        </a:solidFill>
                        <a:latin typeface="Arial"/>
                      </a:endParaRPr>
                    </a:p>
                  </a:txBody>
                  <a:tcPr anchor="t" marL="25920" marR="2592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25920" rIns="25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Φρόντισε να πετάξεις τη μπάλα πρώτα στον ενδιάμεσο.» «Βοηθά στο να μπουν τα χέρια κάτω από την μπάλα, λυγίζοντας τα πόδια.»</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 </a:t>
                      </a:r>
                      <a:endParaRPr b="0" lang="en-US" sz="1600" spc="-1" strike="noStrike">
                        <a:solidFill>
                          <a:srgbClr val="000000"/>
                        </a:solidFill>
                        <a:latin typeface="Arial"/>
                      </a:endParaRPr>
                    </a:p>
                  </a:txBody>
                  <a:tcPr anchor="t" marL="25920" marR="2592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1281240">
                <a:tc>
                  <a:txBody>
                    <a:bodyPr lIns="25920" rIns="259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Lucida Sans Unicode"/>
                        </a:rPr>
                        <a:t>Ταυτόχρονη</a:t>
                      </a:r>
                      <a:endParaRPr b="0" lang="en-US" sz="2000" spc="-1" strike="noStrike">
                        <a:solidFill>
                          <a:srgbClr val="000000"/>
                        </a:solidFill>
                        <a:latin typeface="Arial"/>
                      </a:endParaRPr>
                    </a:p>
                  </a:txBody>
                  <a:tcPr anchor="t" marL="25920" marR="25920">
                    <a:lnL w="5760">
                      <a:solidFill>
                        <a:srgbClr val="ffffff"/>
                      </a:solidFill>
                    </a:lnL>
                    <a:lnR w="5760">
                      <a:solidFill>
                        <a:srgbClr val="ffffff"/>
                      </a:solidFill>
                    </a:lnR>
                    <a:lnT w="5760">
                      <a:solidFill>
                        <a:srgbClr val="ffffff"/>
                      </a:solidFill>
                    </a:lnT>
                    <a:lnB w="5760">
                      <a:solidFill>
                        <a:srgbClr val="ffffff"/>
                      </a:solidFill>
                    </a:lnB>
                    <a:solidFill>
                      <a:srgbClr val="2da2bf"/>
                    </a:solidFill>
                  </a:tcPr>
                </a:tc>
                <a:tc>
                  <a:txBody>
                    <a:bodyPr lIns="25920" rIns="259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Ταιριάζει με το επίκεντρο του έργου</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 </a:t>
                      </a:r>
                      <a:endParaRPr b="0" lang="en-US" sz="1600" spc="-1" strike="noStrike">
                        <a:solidFill>
                          <a:srgbClr val="000000"/>
                        </a:solidFill>
                        <a:latin typeface="Arial"/>
                      </a:endParaRPr>
                    </a:p>
                  </a:txBody>
                  <a:tcPr anchor="t" marL="25920" marR="2592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25920" rIns="259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Καλό </a:t>
                      </a:r>
                      <a:r>
                        <a:rPr b="0" lang="en-US" sz="1600" spc="-1" strike="noStrike">
                          <a:solidFill>
                            <a:srgbClr val="000000"/>
                          </a:solidFill>
                          <a:latin typeface="Lucida Sans Unicode"/>
                        </a:rPr>
                        <a:t>screen</a:t>
                      </a:r>
                      <a:r>
                        <a:rPr b="0" lang="el-GR" sz="1600" spc="-1" strike="noStrike">
                          <a:solidFill>
                            <a:srgbClr val="000000"/>
                          </a:solidFill>
                          <a:latin typeface="Lucida Sans Unicode"/>
                        </a:rPr>
                        <a:t>.» «Βάλε σταθερά τα πόδια σου»</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 </a:t>
                      </a:r>
                      <a:endParaRPr b="0" lang="en-US" sz="1600" spc="-1" strike="noStrike">
                        <a:solidFill>
                          <a:srgbClr val="000000"/>
                        </a:solidFill>
                        <a:latin typeface="Arial"/>
                      </a:endParaRPr>
                    </a:p>
                  </a:txBody>
                  <a:tcPr anchor="t" marL="25920" marR="2592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100" spc="-1" strike="noStrike">
              <a:solidFill>
                <a:srgbClr val="464646"/>
              </a:solidFill>
              <a:latin typeface="Lucida Sans Unicode"/>
            </a:endParaRPr>
          </a:p>
        </p:txBody>
      </p:sp>
      <p:graphicFrame>
        <p:nvGraphicFramePr>
          <p:cNvPr id="403" name=""/>
          <p:cNvGraphicFramePr/>
          <p:nvPr/>
        </p:nvGraphicFramePr>
        <p:xfrm>
          <a:off x="214200" y="4214880"/>
          <a:ext cx="8929800" cy="1428840"/>
        </p:xfrm>
        <a:graphic>
          <a:graphicData uri="http://schemas.openxmlformats.org/drawingml/2006/table">
            <a:tbl>
              <a:tblPr/>
              <a:tblGrid>
                <a:gridCol w="2413080"/>
                <a:gridCol w="3024360"/>
                <a:gridCol w="3492360"/>
              </a:tblGrid>
              <a:tr h="1428840">
                <a:tc>
                  <a:txBody>
                    <a:bodyPr lIns="44640" rIns="44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Ετεροχρονισμένη</a:t>
                      </a:r>
                      <a:endParaRPr b="0" lang="en-US" sz="1600" spc="-1" strike="noStrike">
                        <a:solidFill>
                          <a:srgbClr val="000000"/>
                        </a:solidFill>
                        <a:latin typeface="Arial"/>
                      </a:endParaRPr>
                    </a:p>
                  </a:txBody>
                  <a:tcPr anchor="t" marL="44640" marR="446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44640" rIns="44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Δεν ταιριάζει με το επίκεντρο του έργου</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 </a:t>
                      </a:r>
                      <a:endParaRPr b="0" lang="en-US" sz="1600" spc="-1" strike="noStrike">
                        <a:solidFill>
                          <a:srgbClr val="000000"/>
                        </a:solidFill>
                        <a:latin typeface="Arial"/>
                      </a:endParaRPr>
                    </a:p>
                  </a:txBody>
                  <a:tcPr anchor="t" marL="44640" marR="446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44640" rIns="44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Καλή βολή.»  «να τεντώνεις καλύτερα το χέρι!»</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 </a:t>
                      </a:r>
                      <a:endParaRPr b="0" lang="en-US" sz="1600" spc="-1" strike="noStrike">
                        <a:solidFill>
                          <a:srgbClr val="000000"/>
                        </a:solidFill>
                        <a:latin typeface="Arial"/>
                      </a:endParaRPr>
                    </a:p>
                  </a:txBody>
                  <a:tcPr anchor="t" marL="44640" marR="446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4" name=""/>
          <p:cNvGraphicFramePr/>
          <p:nvPr/>
        </p:nvGraphicFramePr>
        <p:xfrm>
          <a:off x="201600" y="12600"/>
          <a:ext cx="8929800" cy="5202360"/>
        </p:xfrm>
        <a:graphic>
          <a:graphicData uri="http://schemas.openxmlformats.org/drawingml/2006/table">
            <a:tbl>
              <a:tblPr/>
              <a:tblGrid>
                <a:gridCol w="2976480"/>
                <a:gridCol w="2976480"/>
                <a:gridCol w="2976840"/>
              </a:tblGrid>
              <a:tr h="3121200">
                <a:tc>
                  <a:txBody>
                    <a:bodyPr lIns="44640" rIns="44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Εξαρτημένη</a:t>
                      </a:r>
                      <a:endParaRPr b="0" lang="en-US" sz="1600" spc="-1" strike="noStrike">
                        <a:solidFill>
                          <a:srgbClr val="000000"/>
                        </a:solidFill>
                        <a:latin typeface="Arial"/>
                      </a:endParaRPr>
                    </a:p>
                  </a:txBody>
                  <a:tcPr anchor="t" marL="44640" marR="446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44640" rIns="44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Ταιριάζει με το επίπεδο  της επίδοσης του μαθητή</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 </a:t>
                      </a:r>
                      <a:endParaRPr b="0" lang="en-US" sz="1600" spc="-1" strike="noStrike">
                        <a:solidFill>
                          <a:srgbClr val="000000"/>
                        </a:solidFill>
                        <a:latin typeface="Arial"/>
                      </a:endParaRPr>
                    </a:p>
                  </a:txBody>
                  <a:tcPr anchor="t" marL="44640" marR="446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44640" rIns="44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Τα πας πολύ καλά» (όταν ένας μαθητής είναι επιτυχής)  «προσπάθησε να κρατάς τη ρακέτα οριζόντια όταν κάνεις το γύρισμα – κάνεις υπερβολικά μεγάλη γωνία» (όταν ο μαθητής δυσκολεύεται)</a:t>
                      </a:r>
                      <a:endParaRPr b="0" lang="en-US" sz="1600" spc="-1" strike="noStrike">
                        <a:solidFill>
                          <a:srgbClr val="000000"/>
                        </a:solidFill>
                        <a:latin typeface="Arial"/>
                      </a:endParaRPr>
                    </a:p>
                  </a:txBody>
                  <a:tcPr anchor="t" marL="44640" marR="446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2081160">
                <a:tc>
                  <a:txBody>
                    <a:bodyPr lIns="44640" rIns="44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Μη εξαρτημένη  </a:t>
                      </a:r>
                      <a:endParaRPr b="0" lang="en-US" sz="1600" spc="-1" strike="noStrike">
                        <a:solidFill>
                          <a:srgbClr val="000000"/>
                        </a:solidFill>
                        <a:latin typeface="Arial"/>
                      </a:endParaRPr>
                    </a:p>
                  </a:txBody>
                  <a:tcPr anchor="t" marL="44640" marR="44640">
                    <a:lnL w="5760">
                      <a:solidFill>
                        <a:srgbClr val="ffffff"/>
                      </a:solidFill>
                    </a:lnL>
                    <a:lnR w="5760">
                      <a:solidFill>
                        <a:srgbClr val="ffffff"/>
                      </a:solidFill>
                    </a:lnR>
                    <a:lnT w="18720">
                      <a:solidFill>
                        <a:srgbClr val="ffffff"/>
                      </a:solidFill>
                    </a:lnT>
                    <a:lnB w="5760">
                      <a:solidFill>
                        <a:srgbClr val="ffffff"/>
                      </a:solidFill>
                    </a:lnB>
                    <a:solidFill>
                      <a:srgbClr val="2da2bf"/>
                    </a:solidFill>
                  </a:tcPr>
                </a:tc>
                <a:tc>
                  <a:txBody>
                    <a:bodyPr lIns="44640" rIns="44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Δεν ταιριάζει με το επίπεδο της επίδοσης του μαθητή</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 </a:t>
                      </a:r>
                      <a:endParaRPr b="0" lang="en-US" sz="1600" spc="-1" strike="noStrike">
                        <a:solidFill>
                          <a:srgbClr val="000000"/>
                        </a:solidFill>
                        <a:latin typeface="Arial"/>
                      </a:endParaRPr>
                    </a:p>
                  </a:txBody>
                  <a:tcPr anchor="t" marL="44640" marR="446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44640" rIns="44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Τα πας πολύ καλά» «Συνέχισε την καλή δουλειά» (όταν ένας μαθητής δεν είναι επιτυχής.»</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 </a:t>
                      </a:r>
                      <a:endParaRPr b="0" lang="en-US" sz="1600" spc="-1" strike="noStrike">
                        <a:solidFill>
                          <a:srgbClr val="000000"/>
                        </a:solidFill>
                        <a:latin typeface="Arial"/>
                      </a:endParaRPr>
                    </a:p>
                  </a:txBody>
                  <a:tcPr anchor="t" marL="44640" marR="446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bl>
          </a:graphicData>
        </a:graphic>
      </p:graphicFrame>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6" name=""/>
          <p:cNvGraphicFramePr/>
          <p:nvPr/>
        </p:nvGraphicFramePr>
        <p:xfrm>
          <a:off x="0" y="1500120"/>
          <a:ext cx="9144000" cy="4429080"/>
        </p:xfrm>
        <a:graphic>
          <a:graphicData uri="http://schemas.openxmlformats.org/drawingml/2006/table">
            <a:tbl>
              <a:tblPr/>
              <a:tblGrid>
                <a:gridCol w="3048120"/>
                <a:gridCol w="3047760"/>
                <a:gridCol w="3048120"/>
              </a:tblGrid>
              <a:tr h="2530440">
                <a:tc>
                  <a:txBody>
                    <a:bodyPr lIns="44640" rIns="44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Παρακινητική</a:t>
                      </a:r>
                      <a:endParaRPr b="0" lang="en-US" sz="1600" spc="-1" strike="noStrike">
                        <a:solidFill>
                          <a:srgbClr val="000000"/>
                        </a:solidFill>
                        <a:latin typeface="Arial"/>
                      </a:endParaRPr>
                    </a:p>
                  </a:txBody>
                  <a:tcPr anchor="t" marL="44640" marR="446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44640" rIns="44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Δηλώσεις που έχουν σκοπό να ενθαρρύνουν/ να παρακινήσουν τους μαθητές</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 </a:t>
                      </a:r>
                      <a:endParaRPr b="0" lang="en-US" sz="1600" spc="-1" strike="noStrike">
                        <a:solidFill>
                          <a:srgbClr val="000000"/>
                        </a:solidFill>
                        <a:latin typeface="Arial"/>
                      </a:endParaRPr>
                    </a:p>
                  </a:txBody>
                  <a:tcPr anchor="t" marL="44640" marR="446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44640" rIns="44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Συνέχισε την προσπάθεια, θα το καταφέρεις.» «Δουλεύεις τόσο σκληρά – Το εκτιμώ  πραγματικά» «Μια χαρά – αυτή η δεξιότητα είναι δύσκολη – θέλει λίγο καιρό για τη μάθεις καλά.»</a:t>
                      </a:r>
                      <a:endParaRPr b="0" lang="en-US" sz="1600" spc="-1" strike="noStrike">
                        <a:solidFill>
                          <a:srgbClr val="000000"/>
                        </a:solidFill>
                        <a:latin typeface="Arial"/>
                      </a:endParaRPr>
                    </a:p>
                  </a:txBody>
                  <a:tcPr anchor="t" marL="44640" marR="446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1898640">
                <a:tc>
                  <a:txBody>
                    <a:bodyPr lIns="44640" rIns="44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Lucida Sans Unicode"/>
                        </a:rPr>
                        <a:t>Περιγραφική</a:t>
                      </a:r>
                      <a:endParaRPr b="0" lang="en-US" sz="1600" spc="-1" strike="noStrike">
                        <a:solidFill>
                          <a:srgbClr val="000000"/>
                        </a:solidFill>
                        <a:latin typeface="Arial"/>
                      </a:endParaRPr>
                    </a:p>
                  </a:txBody>
                  <a:tcPr anchor="t" marL="44640" marR="44640">
                    <a:lnL w="5760">
                      <a:solidFill>
                        <a:srgbClr val="ffffff"/>
                      </a:solidFill>
                    </a:lnL>
                    <a:lnR w="5760">
                      <a:solidFill>
                        <a:srgbClr val="ffffff"/>
                      </a:solidFill>
                    </a:lnR>
                    <a:lnT w="18720">
                      <a:solidFill>
                        <a:srgbClr val="ffffff"/>
                      </a:solidFill>
                    </a:lnT>
                    <a:lnB w="5760">
                      <a:solidFill>
                        <a:srgbClr val="ffffff"/>
                      </a:solidFill>
                    </a:lnB>
                    <a:solidFill>
                      <a:srgbClr val="2da2bf"/>
                    </a:solidFill>
                  </a:tcPr>
                </a:tc>
                <a:tc>
                  <a:txBody>
                    <a:bodyPr lIns="44640" rIns="44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Περιγράφει συγκεκριμένα τι έκανε σωστά ή λανθασμένα ο μαθητής σε μια δραστηριότητα που μόλις εκτέλεσε.</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 </a:t>
                      </a:r>
                      <a:endParaRPr b="0" lang="en-US" sz="1600" spc="-1" strike="noStrike">
                        <a:solidFill>
                          <a:srgbClr val="000000"/>
                        </a:solidFill>
                        <a:latin typeface="Arial"/>
                      </a:endParaRPr>
                    </a:p>
                  </a:txBody>
                  <a:tcPr anchor="t" marL="44640" marR="446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44640" rIns="44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Lucida Sans Unicode"/>
                        </a:rPr>
                        <a:t>«Μπράβο που ήξερες πού ήταν οι συμπαίκτες σου.» «Δεν πρόσεξες πού ήταν οι συμπαίκτες σου.»</a:t>
                      </a:r>
                      <a:endParaRPr b="0" lang="en-US" sz="1600" spc="-1" strike="noStrike">
                        <a:solidFill>
                          <a:srgbClr val="000000"/>
                        </a:solidFill>
                        <a:latin typeface="Arial"/>
                      </a:endParaRPr>
                    </a:p>
                  </a:txBody>
                  <a:tcPr anchor="t" marL="44640" marR="446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bl>
          </a:graphicData>
        </a:graphic>
      </p:graphicFrame>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8" name=""/>
          <p:cNvGraphicFramePr/>
          <p:nvPr/>
        </p:nvGraphicFramePr>
        <p:xfrm>
          <a:off x="-11160" y="19080"/>
          <a:ext cx="9036000" cy="4416480"/>
        </p:xfrm>
        <a:graphic>
          <a:graphicData uri="http://schemas.openxmlformats.org/drawingml/2006/table">
            <a:tbl>
              <a:tblPr/>
              <a:tblGrid>
                <a:gridCol w="1800360"/>
                <a:gridCol w="4222800"/>
                <a:gridCol w="3012840"/>
              </a:tblGrid>
              <a:tr h="1577880">
                <a:tc>
                  <a:txBody>
                    <a:bodyPr lIns="56880" rIns="56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Ρυθμιστική</a:t>
                      </a:r>
                      <a:endParaRPr b="0" lang="en-US" sz="1800" spc="-1" strike="noStrike">
                        <a:solidFill>
                          <a:srgbClr val="000000"/>
                        </a:solidFill>
                        <a:latin typeface="Arial"/>
                      </a:endParaRPr>
                    </a:p>
                  </a:txBody>
                  <a:tcPr anchor="t" marL="56880" marR="5688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56880" rIns="56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Περιγράφει συγκεκριμένα τι πρέπει να κάνει ο μαθητής στο μέλλον, για να εκτελέσει σωστά τη δεξιότητα.</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 </a:t>
                      </a:r>
                      <a:endParaRPr b="0" lang="en-US" sz="1800" spc="-1" strike="noStrike">
                        <a:solidFill>
                          <a:srgbClr val="000000"/>
                        </a:solidFill>
                        <a:latin typeface="Arial"/>
                      </a:endParaRPr>
                    </a:p>
                  </a:txBody>
                  <a:tcPr anchor="t" marL="56880" marR="5688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56880" rIns="56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Την επόμενη φορά κοίτα γύρω σου,  για να δεις πού είναι ο συμπαίκτες σου.»</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 </a:t>
                      </a:r>
                      <a:endParaRPr b="0" lang="en-US" sz="1800" spc="-1" strike="noStrike">
                        <a:solidFill>
                          <a:srgbClr val="000000"/>
                        </a:solidFill>
                        <a:latin typeface="Arial"/>
                      </a:endParaRPr>
                    </a:p>
                  </a:txBody>
                  <a:tcPr anchor="t" marL="56880" marR="5688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2838600">
                <a:tc>
                  <a:txBody>
                    <a:bodyPr lIns="56880" rIns="56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Επαυξημένη</a:t>
                      </a:r>
                      <a:endParaRPr b="0" lang="en-US" sz="1800" spc="-1" strike="noStrike">
                        <a:solidFill>
                          <a:srgbClr val="000000"/>
                        </a:solidFill>
                        <a:latin typeface="Arial"/>
                      </a:endParaRPr>
                    </a:p>
                  </a:txBody>
                  <a:tcPr anchor="t" marL="56880" marR="56880">
                    <a:lnL w="5760">
                      <a:solidFill>
                        <a:srgbClr val="ffffff"/>
                      </a:solidFill>
                    </a:lnL>
                    <a:lnR w="5760">
                      <a:solidFill>
                        <a:srgbClr val="ffffff"/>
                      </a:solidFill>
                    </a:lnR>
                    <a:lnT w="18720">
                      <a:solidFill>
                        <a:srgbClr val="ffffff"/>
                      </a:solidFill>
                    </a:lnT>
                    <a:lnB w="5760">
                      <a:solidFill>
                        <a:srgbClr val="ffffff"/>
                      </a:solidFill>
                    </a:lnB>
                    <a:solidFill>
                      <a:srgbClr val="2da2bf"/>
                    </a:solidFill>
                  </a:tcPr>
                </a:tc>
                <a:tc>
                  <a:txBody>
                    <a:bodyPr lIns="56880" rIns="56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Lucida Sans Unicode"/>
                        </a:rPr>
                        <a:t>Κάθε πληροφορία που δέχεται το άτομο που εκτελεί μια κίνηση από μια εξωτερική πηγή.</a:t>
                      </a:r>
                      <a:endParaRPr b="0" lang="en-US" sz="1800" spc="-1" strike="noStrike">
                        <a:solidFill>
                          <a:srgbClr val="000000"/>
                        </a:solidFill>
                        <a:latin typeface="Arial"/>
                      </a:endParaRPr>
                    </a:p>
                  </a:txBody>
                  <a:tcPr anchor="t" marL="56880" marR="5688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56880" rIns="56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Lucida Sans Unicode"/>
                        </a:rPr>
                        <a:t>Ο χρόνος κολύμβησης 50 μέτρων∙ κάθε είδους λεκτική ανατροφοδότηση από τον εκπαιδευτικό για την κίνηση∙ η παρακολούθηση μιας προσπάθειας σε βίντεο.</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Lucida Sans Unicode"/>
                        </a:rPr>
                        <a:t> </a:t>
                      </a:r>
                      <a:endParaRPr b="0" lang="en-US" sz="1800" spc="-1" strike="noStrike">
                        <a:solidFill>
                          <a:srgbClr val="000000"/>
                        </a:solidFill>
                        <a:latin typeface="Arial"/>
                      </a:endParaRPr>
                    </a:p>
                  </a:txBody>
                  <a:tcPr anchor="t" marL="56880" marR="5688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bl>
          </a:graphicData>
        </a:graphic>
      </p:graphicFrame>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
          <p:cNvGraphicFramePr/>
          <p:nvPr/>
        </p:nvGraphicFramePr>
        <p:xfrm>
          <a:off x="108000" y="1500120"/>
          <a:ext cx="9036000" cy="4416480"/>
        </p:xfrm>
        <a:graphic>
          <a:graphicData uri="http://schemas.openxmlformats.org/drawingml/2006/table">
            <a:tbl>
              <a:tblPr/>
              <a:tblGrid>
                <a:gridCol w="1800000"/>
                <a:gridCol w="4222800"/>
                <a:gridCol w="3013200"/>
              </a:tblGrid>
              <a:tr h="4416480">
                <a:tc>
                  <a:txBody>
                    <a:bodyPr lIns="56880" rIns="56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Ενδογενής</a:t>
                      </a:r>
                      <a:endParaRPr b="0" lang="en-US" sz="1800" spc="-1" strike="noStrike">
                        <a:solidFill>
                          <a:srgbClr val="000000"/>
                        </a:solidFill>
                        <a:latin typeface="Arial"/>
                      </a:endParaRPr>
                    </a:p>
                  </a:txBody>
                  <a:tcPr anchor="t" marL="56880" marR="5688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56880" rIns="56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Οι πληροφορίες που προσλαμβάνει ένα άτομο για μια κίνηση μέσω των διαφορετικών αισθήσεων, απλώς εκτελώντας την κίνηση.</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 </a:t>
                      </a:r>
                      <a:endParaRPr b="0" lang="en-US" sz="1800" spc="-1" strike="noStrike">
                        <a:solidFill>
                          <a:srgbClr val="000000"/>
                        </a:solidFill>
                        <a:latin typeface="Arial"/>
                      </a:endParaRPr>
                    </a:p>
                  </a:txBody>
                  <a:tcPr anchor="t" marL="56880" marR="5688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56880" rIns="568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Το να βλέπει ο παίκτης τη μπάλα του μπόουλινγκ να πηγαίνει  στο αυλάκι ∙ το να αισθάνεται έναν ελαφρύ πόνο στα χέρια του, όταν χτυπά σωστά τη μπάλα με το ρόπαλο ∙ το να ακούει το ρόπαλο να χτυπά μόνο αέρα, αφού έχει κάνει το γύρισμα αλλά έχει χάσει τη μπάλα.</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 </a:t>
                      </a:r>
                      <a:endParaRPr b="0" lang="en-US" sz="1800" spc="-1" strike="noStrike">
                        <a:solidFill>
                          <a:srgbClr val="000000"/>
                        </a:solidFill>
                        <a:latin typeface="Arial"/>
                      </a:endParaRPr>
                    </a:p>
                  </a:txBody>
                  <a:tcPr anchor="t" marL="56880" marR="5688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bl>
          </a:graphicData>
        </a:graphic>
      </p:graphicFrame>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2" name=""/>
          <p:cNvGraphicFramePr/>
          <p:nvPr/>
        </p:nvGraphicFramePr>
        <p:xfrm>
          <a:off x="34920" y="0"/>
          <a:ext cx="9109080" cy="5994360"/>
        </p:xfrm>
        <a:graphic>
          <a:graphicData uri="http://schemas.openxmlformats.org/drawingml/2006/table">
            <a:tbl>
              <a:tblPr/>
              <a:tblGrid>
                <a:gridCol w="1800360"/>
                <a:gridCol w="4260600"/>
                <a:gridCol w="3048120"/>
              </a:tblGrid>
              <a:tr h="2523960">
                <a:tc>
                  <a:txBody>
                    <a:bodyPr lIns="43560" rIns="435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Συνεχιζόμενη</a:t>
                      </a:r>
                      <a:endParaRPr b="0" lang="en-US" sz="1800" spc="-1" strike="noStrike">
                        <a:solidFill>
                          <a:srgbClr val="000000"/>
                        </a:solidFill>
                        <a:latin typeface="Arial"/>
                      </a:endParaRPr>
                    </a:p>
                  </a:txBody>
                  <a:tcPr anchor="t" marL="43560" marR="435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43560" rIns="435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Ο αθλητής δέχεται πληροφορίες για τη δεξιότητα σε κάθε προσπάθεια για παραγωγή έργου.</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 </a:t>
                      </a:r>
                      <a:endParaRPr b="0" lang="en-US" sz="1800" spc="-1" strike="noStrike">
                        <a:solidFill>
                          <a:srgbClr val="000000"/>
                        </a:solidFill>
                        <a:latin typeface="Arial"/>
                      </a:endParaRPr>
                    </a:p>
                  </a:txBody>
                  <a:tcPr anchor="t" marL="43560" marR="435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43560" rIns="435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Ο προπονητής παρατηρεί κάθε προσπάθεια του μαθητή για παραγωγή έργου και παρέχει ανατροφοδότηση μετά κάθε προσπάθεια.  </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 </a:t>
                      </a:r>
                      <a:endParaRPr b="0" lang="en-US" sz="1800" spc="-1" strike="noStrike">
                        <a:solidFill>
                          <a:srgbClr val="000000"/>
                        </a:solidFill>
                        <a:latin typeface="Arial"/>
                      </a:endParaRPr>
                    </a:p>
                  </a:txBody>
                  <a:tcPr anchor="t" marL="43560" marR="435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470400">
                <a:tc>
                  <a:txBody>
                    <a:bodyPr lIns="43560" rIns="435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Διακοπτόμενη</a:t>
                      </a:r>
                      <a:endParaRPr b="0" lang="en-US" sz="1800" spc="-1" strike="noStrike">
                        <a:solidFill>
                          <a:srgbClr val="000000"/>
                        </a:solidFill>
                        <a:latin typeface="Arial"/>
                      </a:endParaRPr>
                    </a:p>
                  </a:txBody>
                  <a:tcPr anchor="t" marL="43560" marR="43560">
                    <a:lnL w="5760">
                      <a:solidFill>
                        <a:srgbClr val="ffffff"/>
                      </a:solidFill>
                    </a:lnL>
                    <a:lnR w="5760">
                      <a:solidFill>
                        <a:srgbClr val="ffffff"/>
                      </a:solidFill>
                    </a:lnR>
                    <a:lnT w="18720">
                      <a:solidFill>
                        <a:srgbClr val="ffffff"/>
                      </a:solidFill>
                    </a:lnT>
                    <a:lnB w="5760">
                      <a:solidFill>
                        <a:srgbClr val="ffffff"/>
                      </a:solidFill>
                    </a:lnB>
                    <a:solidFill>
                      <a:srgbClr val="2da2bf"/>
                    </a:solidFill>
                  </a:tcPr>
                </a:tc>
                <a:tc>
                  <a:txBody>
                    <a:bodyPr lIns="43560" rIns="435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Lucida Sans Unicode"/>
                        </a:rPr>
                        <a:t>Ο αθλητής δέχεται πληροφορίες για τη δεξιότητα περιοδικά κατά τη διάρκεια της εξάσκησης.</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Lucida Sans Unicode"/>
                        </a:rPr>
                        <a:t> </a:t>
                      </a:r>
                      <a:endParaRPr b="0" lang="en-US" sz="1800" spc="-1" strike="noStrike">
                        <a:solidFill>
                          <a:srgbClr val="000000"/>
                        </a:solidFill>
                        <a:latin typeface="Arial"/>
                      </a:endParaRPr>
                    </a:p>
                  </a:txBody>
                  <a:tcPr anchor="t" marL="43560" marR="435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43560" rIns="43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Lucida Sans Unicode"/>
                        </a:rPr>
                        <a:t>Ο προπονητής παρατηρεί τον μαθητή να εκτελεί αρκετές προσπάθειες, του παρέχει ανατροφοδότηση, παρατηρεί άλλες λίγες προσπάθειες και παρέχει ανατροφοδότηση ξανά.</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Lucida Sans Unicode"/>
                        </a:rPr>
                        <a:t> </a:t>
                      </a:r>
                      <a:endParaRPr b="0" lang="en-US" sz="1800" spc="-1" strike="noStrike">
                        <a:solidFill>
                          <a:srgbClr val="000000"/>
                        </a:solidFill>
                        <a:latin typeface="Arial"/>
                      </a:endParaRPr>
                    </a:p>
                  </a:txBody>
                  <a:tcPr anchor="t" marL="43560" marR="435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bl>
          </a:graphicData>
        </a:graphic>
      </p:graphicFrame>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4" name=""/>
          <p:cNvGraphicFramePr/>
          <p:nvPr/>
        </p:nvGraphicFramePr>
        <p:xfrm>
          <a:off x="34920" y="1571760"/>
          <a:ext cx="9109080" cy="3475080"/>
        </p:xfrm>
        <a:graphic>
          <a:graphicData uri="http://schemas.openxmlformats.org/drawingml/2006/table">
            <a:tbl>
              <a:tblPr/>
              <a:tblGrid>
                <a:gridCol w="1800360"/>
                <a:gridCol w="4260600"/>
                <a:gridCol w="3048120"/>
              </a:tblGrid>
              <a:tr h="1577880">
                <a:tc>
                  <a:txBody>
                    <a:bodyPr lIns="43560" rIns="435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Τρέχουσα (καθοδήγηση)  </a:t>
                      </a:r>
                      <a:endParaRPr b="0" lang="en-US" sz="1800" spc="-1" strike="noStrike">
                        <a:solidFill>
                          <a:srgbClr val="000000"/>
                        </a:solidFill>
                        <a:latin typeface="Arial"/>
                      </a:endParaRPr>
                    </a:p>
                  </a:txBody>
                  <a:tcPr anchor="t" marL="43560" marR="435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43560" rIns="435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Οι πληροφορίες που παρέχονται στον αθλητή για τη δεξιότητα κατά την προσπάθεια για παραγωγή έργου.</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 </a:t>
                      </a:r>
                      <a:endParaRPr b="0" lang="en-US" sz="1800" spc="-1" strike="noStrike">
                        <a:solidFill>
                          <a:srgbClr val="000000"/>
                        </a:solidFill>
                        <a:latin typeface="Arial"/>
                      </a:endParaRPr>
                    </a:p>
                  </a:txBody>
                  <a:tcPr anchor="t" marL="43560" marR="435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43560" rIns="43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Φρόντισε να σουτάρεις με το εξωτερικό χέρι» (λέγεται καθώς ο αθλητής προσπαθεί ένα </a:t>
                      </a:r>
                      <a:r>
                        <a:rPr b="1" lang="en-US" sz="1800" spc="-1" strike="noStrike">
                          <a:solidFill>
                            <a:srgbClr val="ffffff"/>
                          </a:solidFill>
                          <a:latin typeface="Lucida Sans Unicode"/>
                        </a:rPr>
                        <a:t>layup</a:t>
                      </a:r>
                      <a:r>
                        <a:rPr b="1" lang="el-GR" sz="1800" spc="-1" strike="noStrike">
                          <a:solidFill>
                            <a:srgbClr val="ffffff"/>
                          </a:solidFill>
                          <a:latin typeface="Lucida Sans Unicode"/>
                        </a:rPr>
                        <a:t> (μπάσιμο)).</a:t>
                      </a:r>
                      <a:endParaRPr b="0" lang="en-US" sz="1800" spc="-1" strike="noStrike">
                        <a:solidFill>
                          <a:srgbClr val="000000"/>
                        </a:solidFill>
                        <a:latin typeface="Arial"/>
                      </a:endParaRPr>
                    </a:p>
                  </a:txBody>
                  <a:tcPr anchor="t" marL="43560" marR="435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1897200">
                <a:tc>
                  <a:txBody>
                    <a:bodyPr lIns="43560" rIns="435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3560" marR="43560">
                    <a:lnL w="5760">
                      <a:solidFill>
                        <a:srgbClr val="ffffff"/>
                      </a:solidFill>
                    </a:lnL>
                    <a:lnR w="5760">
                      <a:solidFill>
                        <a:srgbClr val="ffffff"/>
                      </a:solidFill>
                    </a:lnR>
                    <a:lnT w="18720">
                      <a:solidFill>
                        <a:srgbClr val="ffffff"/>
                      </a:solidFill>
                    </a:lnT>
                    <a:lnB w="5760">
                      <a:solidFill>
                        <a:srgbClr val="ffffff"/>
                      </a:solidFill>
                    </a:lnB>
                    <a:solidFill>
                      <a:srgbClr val="2da2bf"/>
                    </a:solidFill>
                  </a:tcPr>
                </a:tc>
                <a:tc>
                  <a:txBody>
                    <a:bodyPr lIns="43560" rIns="435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3560" marR="435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43560" rIns="43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3560" marR="435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bl>
          </a:graphicData>
        </a:graphic>
      </p:graphicFrame>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6" name=""/>
          <p:cNvGraphicFramePr/>
          <p:nvPr/>
        </p:nvGraphicFramePr>
        <p:xfrm>
          <a:off x="0" y="1000080"/>
          <a:ext cx="9144000" cy="3786120"/>
        </p:xfrm>
        <a:graphic>
          <a:graphicData uri="http://schemas.openxmlformats.org/drawingml/2006/table">
            <a:tbl>
              <a:tblPr/>
              <a:tblGrid>
                <a:gridCol w="2111400"/>
                <a:gridCol w="3984480"/>
                <a:gridCol w="3048120"/>
              </a:tblGrid>
              <a:tr h="3786120">
                <a:tc>
                  <a:txBody>
                    <a:bodyPr lIns="49320" rIns="493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Άμεση</a:t>
                      </a:r>
                      <a:endParaRPr b="0" lang="en-US" sz="1800" spc="-1" strike="noStrike">
                        <a:solidFill>
                          <a:srgbClr val="000000"/>
                        </a:solidFill>
                        <a:latin typeface="Arial"/>
                      </a:endParaRPr>
                    </a:p>
                  </a:txBody>
                  <a:tcPr anchor="t" marL="49320" marR="4932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49320" rIns="493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Οι πληροφορίες που παρέχονται στον εκπαιδευόμενο για τη δεξιότητα αμέσως μετά την εκτέλεση της προσπάθειας για παραγωγή έργου.</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 </a:t>
                      </a:r>
                      <a:endParaRPr b="0" lang="en-US" sz="1800" spc="-1" strike="noStrike">
                        <a:solidFill>
                          <a:srgbClr val="000000"/>
                        </a:solidFill>
                        <a:latin typeface="Arial"/>
                      </a:endParaRPr>
                    </a:p>
                  </a:txBody>
                  <a:tcPr anchor="t" marL="49320" marR="4932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49320" rIns="493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Πάτησες στο σωστό πόδι αυτή τη φορά». «Φρόντισε να πατήσεις στο αντίθετο πόδι την επόμενη φορά.» (Κάθε φράση από αυτές τις δυο, λέγεται αμέσως μόλις ο μαθητής ολοκληρώσει μια ρίψη με το χέρι πάνω από τον  ώμο.)</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 </a:t>
                      </a:r>
                      <a:endParaRPr b="0" lang="en-US" sz="1800" spc="-1" strike="noStrike">
                        <a:solidFill>
                          <a:srgbClr val="000000"/>
                        </a:solidFill>
                        <a:latin typeface="Arial"/>
                      </a:endParaRPr>
                    </a:p>
                  </a:txBody>
                  <a:tcPr anchor="t" marL="49320" marR="4932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bl>
          </a:graphicData>
        </a:graphic>
      </p:graphicFrame>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Lucida Sans Unicode"/>
              </a:rPr>
              <a:t>Η ενίσχυση είναι κεντρικό στοιχείο στη συμπεριφορική θεωρία (Skinner, 1953, 1974) και στην τροποποίηση της συμπεριφοράς.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Lucida Sans Unicode"/>
              </a:rPr>
              <a:t>Η θεωρία της γνωστικής αξιολόγησης (Deci &amp; Ryan, 1985˙ Ryan &amp; Ceci, 2000), προσπαθεί να εξηγήσει πώς οι εξωτερικές επιβραβεύσεις μπορούν να επηρεάσουν τα εσωτερικά κίνητρα.</a:t>
            </a:r>
            <a:endParaRPr b="0" lang="en-US" sz="2700" spc="-1" strike="noStrike">
              <a:solidFill>
                <a:srgbClr val="000000"/>
              </a:solidFill>
              <a:latin typeface="Lucida Sans Unicode"/>
            </a:endParaRPr>
          </a:p>
        </p:txBody>
      </p:sp>
      <p:pic>
        <p:nvPicPr>
          <p:cNvPr id="380" name="Τίτλος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8" name=""/>
          <p:cNvGraphicFramePr/>
          <p:nvPr/>
        </p:nvGraphicFramePr>
        <p:xfrm>
          <a:off x="0" y="0"/>
          <a:ext cx="9144000" cy="6572160"/>
        </p:xfrm>
        <a:graphic>
          <a:graphicData uri="http://schemas.openxmlformats.org/drawingml/2006/table">
            <a:tbl>
              <a:tblPr/>
              <a:tblGrid>
                <a:gridCol w="2111400"/>
                <a:gridCol w="3984480"/>
                <a:gridCol w="3048120"/>
              </a:tblGrid>
              <a:tr h="6572160">
                <a:tc>
                  <a:txBody>
                    <a:bodyPr lIns="49320" rIns="493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Καθυστερημένη</a:t>
                      </a:r>
                      <a:endParaRPr b="0" lang="en-US" sz="1800" spc="-1" strike="noStrike">
                        <a:solidFill>
                          <a:srgbClr val="000000"/>
                        </a:solidFill>
                        <a:latin typeface="Arial"/>
                      </a:endParaRPr>
                    </a:p>
                  </a:txBody>
                  <a:tcPr anchor="t" marL="49320" marR="4932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49320" rIns="493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Ο προπονητής αφήνει να παρέλθει κάποιος χρόνος** πριν από την παροχή ανατροφοδότησης στον αθλητή σχετικά με μια (ή περισσότερες) προσπάθεια για παραγωγή έργου.</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 </a:t>
                      </a:r>
                      <a:endParaRPr b="0" lang="en-US" sz="1800" spc="-1" strike="noStrike">
                        <a:solidFill>
                          <a:srgbClr val="000000"/>
                        </a:solidFill>
                        <a:latin typeface="Arial"/>
                      </a:endParaRPr>
                    </a:p>
                  </a:txBody>
                  <a:tcPr anchor="t" marL="49320" marR="4932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49320" rIns="493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Ο προπονητής παρατηρεί τον μαθητή να παίζει 2 με 3 σετ στο μπόουλινγκ, στη συνέχεια μπορεί να ζητήσει από τον αθλητή να του περιγράψει τι να κάνει για να κάνει τη μπάλα να πάει ίσια, να τον ρωτήσει εάν το κάνει και έπειτα να του πει «Όταν αφήνεις τη μπάλα,  το χέρι σου δείχνει κατ’ ευθείαν το αυλάκι. Φρόντισε να παρακολουθείς την κίνηση με το χέρι σου να δείχνει προς την κεντρική κορίνα.»</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Lucida Sans Unicode"/>
                        </a:rPr>
                        <a:t> </a:t>
                      </a:r>
                      <a:endParaRPr b="0" lang="en-US" sz="1800" spc="-1" strike="noStrike">
                        <a:solidFill>
                          <a:srgbClr val="000000"/>
                        </a:solidFill>
                        <a:latin typeface="Arial"/>
                      </a:endParaRPr>
                    </a:p>
                  </a:txBody>
                  <a:tcPr anchor="t" marL="49320" marR="4932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bl>
          </a:graphicData>
        </a:graphic>
      </p:graphicFrame>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0" y="1999800"/>
            <a:ext cx="9144000" cy="44290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Lucida Sans Unicode"/>
              </a:rPr>
              <a:t>Η χρονομέτρηση της κολύμβησης 50 μέτρων αποτελεί ένα είδος επαυξημένης ανατροφοδότησης</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Lucida Sans Unicode"/>
              </a:rPr>
              <a:t>Η </a:t>
            </a:r>
            <a:r>
              <a:rPr b="1" lang="el-GR" sz="2700" spc="-1" strike="noStrike">
                <a:solidFill>
                  <a:srgbClr val="000000"/>
                </a:solidFill>
                <a:latin typeface="Lucida Sans Unicode"/>
              </a:rPr>
              <a:t>επαυξημένη ανατροφοδότηση </a:t>
            </a:r>
            <a:r>
              <a:rPr b="0" lang="el-GR" sz="2700" spc="-1" strike="noStrike">
                <a:solidFill>
                  <a:srgbClr val="000000"/>
                </a:solidFill>
                <a:latin typeface="Lucida Sans Unicode"/>
              </a:rPr>
              <a:t>είναι διαφορετική από την </a:t>
            </a:r>
            <a:r>
              <a:rPr b="1" lang="el-GR" sz="2700" spc="-1" strike="noStrike">
                <a:solidFill>
                  <a:srgbClr val="000000"/>
                </a:solidFill>
                <a:latin typeface="Lucida Sans Unicode"/>
              </a:rPr>
              <a:t>ενδογενή ανατροφοδότηση</a:t>
            </a:r>
            <a:r>
              <a:rPr b="0" lang="el-GR" sz="2700" spc="-1" strike="noStrike">
                <a:solidFill>
                  <a:srgbClr val="000000"/>
                </a:solidFill>
                <a:latin typeface="Lucida Sans Unicode"/>
              </a:rPr>
              <a:t>, δηλαδή τις πληροφορίες που προσλαμβάνει ένα άτομο για μια κίνηση μέσω των διαφόρων αισθήσεων, απλώς εκτελώντας την κίνηση</a:t>
            </a:r>
            <a:endParaRPr b="0" lang="en-US" sz="2700" spc="-1" strike="noStrike">
              <a:solidFill>
                <a:srgbClr val="000000"/>
              </a:solidFill>
              <a:latin typeface="Lucida Sans Unicode"/>
            </a:endParaRPr>
          </a:p>
        </p:txBody>
      </p:sp>
      <p:pic>
        <p:nvPicPr>
          <p:cNvPr id="421" name="Τίτλος 1" descr=""/>
          <p:cNvPicPr/>
          <p:nvPr/>
        </p:nvPicPr>
        <p:blipFill>
          <a:blip r:embed="rId1"/>
          <a:stretch/>
        </p:blipFill>
        <p:spPr>
          <a:xfrm>
            <a:off x="0" y="96840"/>
            <a:ext cx="9144000" cy="165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0" y="259920"/>
            <a:ext cx="9144000" cy="6597720"/>
          </a:xfrm>
          <a:prstGeom prst="rect">
            <a:avLst/>
          </a:prstGeom>
          <a:noFill/>
          <a:ln w="0">
            <a:noFill/>
          </a:ln>
        </p:spPr>
        <p:txBody>
          <a:bodyPr anchor="t">
            <a:normAutofit/>
          </a:bodyPr>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Lucida Sans Unicode"/>
              </a:rPr>
              <a:t>Η επαυξημένη ανατροφοδότηση είναι σημαντική για την εκμάθηση των κινητικών δεξιοτήτων. Αυτό ισχύει σε τρεις περιπτώσεις: </a:t>
            </a:r>
            <a:endParaRPr b="0" lang="en-US" sz="2700" spc="-1" strike="noStrike">
              <a:solidFill>
                <a:srgbClr val="000000"/>
              </a:solidFill>
              <a:latin typeface="Lucida Sans Unicode"/>
            </a:endParaRPr>
          </a:p>
          <a:p>
            <a:pPr lvl="1" marL="620640" indent="-228600">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Lucida Sans Unicode"/>
              </a:rPr>
              <a:t>(α) εάν </a:t>
            </a:r>
            <a:r>
              <a:rPr b="1" lang="el-GR" sz="2300" spc="-1" strike="noStrike">
                <a:solidFill>
                  <a:srgbClr val="000000"/>
                </a:solidFill>
                <a:latin typeface="Lucida Sans Unicode"/>
              </a:rPr>
              <a:t>δεν είναι διαθέσιμη στον αθλητή η ενδογενής ανατροφοδότηση </a:t>
            </a:r>
            <a:r>
              <a:rPr b="0" lang="el-GR" sz="2300" spc="-1" strike="noStrike">
                <a:solidFill>
                  <a:srgbClr val="000000"/>
                </a:solidFill>
                <a:latin typeface="Lucida Sans Unicode"/>
              </a:rPr>
              <a:t>από το έργο (π.χ. ο αθλητής δεν μπορεί να δει που προσγειώθηκε ή η χρονομέτρηση των 50 μέτρων κολύμβησης), </a:t>
            </a:r>
            <a:endParaRPr b="0" lang="en-US" sz="2300" spc="-1" strike="noStrike">
              <a:solidFill>
                <a:srgbClr val="000000"/>
              </a:solidFill>
              <a:latin typeface="Lucida Sans Unicode"/>
            </a:endParaRPr>
          </a:p>
          <a:p>
            <a:pPr lvl="1" marL="620640" indent="-228600">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Lucida Sans Unicode"/>
              </a:rPr>
              <a:t>(β) όταν ο αθλητής </a:t>
            </a:r>
            <a:r>
              <a:rPr b="1" lang="el-GR" sz="2300" spc="-1" strike="noStrike">
                <a:solidFill>
                  <a:srgbClr val="000000"/>
                </a:solidFill>
                <a:latin typeface="Lucida Sans Unicode"/>
              </a:rPr>
              <a:t>δε μπορεί να έχει αισθητηριακή ανατροφοδότηση</a:t>
            </a:r>
            <a:r>
              <a:rPr b="0" lang="el-GR" sz="2300" spc="-1" strike="noStrike">
                <a:solidFill>
                  <a:srgbClr val="000000"/>
                </a:solidFill>
                <a:latin typeface="Lucida Sans Unicode"/>
              </a:rPr>
              <a:t> λόγω σωματικής αναπηρίας (π.χ., λόγω απώλεια όρασης ή ακοής) και </a:t>
            </a:r>
            <a:endParaRPr b="0" lang="en-US" sz="2300" spc="-1" strike="noStrike">
              <a:solidFill>
                <a:srgbClr val="000000"/>
              </a:solidFill>
              <a:latin typeface="Lucida Sans Unicode"/>
            </a:endParaRPr>
          </a:p>
          <a:p>
            <a:pPr lvl="1" marL="620640" indent="-228600">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Lucida Sans Unicode"/>
              </a:rPr>
              <a:t>(γ) εάν το άτομο </a:t>
            </a:r>
            <a:r>
              <a:rPr b="1" lang="el-GR" sz="2300" spc="-1" strike="noStrike">
                <a:solidFill>
                  <a:srgbClr val="000000"/>
                </a:solidFill>
                <a:latin typeface="Lucida Sans Unicode"/>
              </a:rPr>
              <a:t>αδυνατεί να χρησιμοποιήσει την ενδογενή ανατροφοδότηση </a:t>
            </a:r>
            <a:r>
              <a:rPr b="0" lang="el-GR" sz="2300" spc="-1" strike="noStrike">
                <a:solidFill>
                  <a:srgbClr val="000000"/>
                </a:solidFill>
                <a:latin typeface="Lucida Sans Unicode"/>
              </a:rPr>
              <a:t>λόγω έλλειψης πείρας στη δεξιότητα (π.χ., ακόμη και αν ο αθλητής μπορεί να νοιώσει ότι η μπάλα του μπάσκετ έφυγε με λάθος τρόπο από τα δάχτυλά του, δεν γνωρίζει αρκετά για τα σουτ, ώστε να παρατηρεί και να χρησιμοποιεί την αίσθηση της αφής, με σκοπό να διορθώσει τη βολή.</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250560" y="1428480"/>
            <a:ext cx="8893080" cy="54291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Lucida Sans Unicode"/>
              </a:rPr>
              <a:t>Η εκμάθηση ορισμένων κινητικών δεξιοτήτων </a:t>
            </a:r>
            <a:r>
              <a:rPr b="1" lang="el-GR" sz="2700" spc="-1" strike="noStrike">
                <a:solidFill>
                  <a:srgbClr val="000000"/>
                </a:solidFill>
                <a:latin typeface="Lucida Sans Unicode"/>
              </a:rPr>
              <a:t>είναι δυνατή χωρίς την επαυξημένη ανατροφοδότηση</a:t>
            </a:r>
            <a:r>
              <a:rPr b="0" lang="el-GR" sz="2700" spc="-1" strike="noStrike">
                <a:solidFill>
                  <a:srgbClr val="000000"/>
                </a:solidFill>
                <a:latin typeface="Lucida Sans Unicode"/>
              </a:rPr>
              <a:t>. Πολύ απλές δεξιότητες μπορεί μερικές φορές να παρέχουν αρκετή ενδογενή ανατροφοδότηση, ώστε οι μαθητές να αναγνωρίσουν τα λάθη τους και να κάνουν προσαρμογές.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250560" y="1357200"/>
            <a:ext cx="8713800" cy="5384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Lucida Sans Unicode"/>
              </a:rPr>
              <a:t>Η </a:t>
            </a:r>
            <a:r>
              <a:rPr b="1" lang="el-GR" sz="2700" spc="-1" strike="noStrike">
                <a:solidFill>
                  <a:srgbClr val="000000"/>
                </a:solidFill>
                <a:latin typeface="Lucida Sans Unicode"/>
              </a:rPr>
              <a:t>επαυξημένη ανατροφοδότηση μπορεί να ενισχύσει την εκμάθηση </a:t>
            </a:r>
            <a:r>
              <a:rPr b="0" lang="el-GR" sz="2700" spc="-1" strike="noStrike">
                <a:solidFill>
                  <a:srgbClr val="000000"/>
                </a:solidFill>
                <a:latin typeface="Lucida Sans Unicode"/>
              </a:rPr>
              <a:t>ορισμένων κινητικών δεξιοτήτων. Αν και μερικές δεξιότητες μπορούν να μαθευτούν χωρίς την επαυξημένη ανατροφοδότηση, συχνά η εκμάθηση των δεξιοτήτων μπορεί να επιτευχθεί ταχύτερα και σε υψηλότερο επίπεδο, εάν παρέχεται επαυξημένη ανατροφοδότηση.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108000" y="428400"/>
            <a:ext cx="8928000" cy="64292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Lucida Sans Unicode"/>
              </a:rPr>
              <a:t>Η </a:t>
            </a:r>
            <a:r>
              <a:rPr b="1" lang="el-GR" sz="2400" spc="-1" strike="noStrike">
                <a:solidFill>
                  <a:srgbClr val="000000"/>
                </a:solidFill>
                <a:latin typeface="Lucida Sans Unicode"/>
              </a:rPr>
              <a:t>επαυξημένη ανατροφοδότηση μπορεί να εμποδίσει την εκμάθηση </a:t>
            </a:r>
            <a:r>
              <a:rPr b="0" lang="el-GR" sz="2400" spc="-1" strike="noStrike">
                <a:solidFill>
                  <a:srgbClr val="000000"/>
                </a:solidFill>
                <a:latin typeface="Lucida Sans Unicode"/>
              </a:rPr>
              <a:t>ορισμένων κινητικών δεξιοτήτων. Ένας από τους τρόπους που μπορεί να συμβεί αυτό είναι, όταν ο προπονητής δίνει στον αθλητή λανθασμένες ή ελλιπείς οδηγίες σχετικά με μια κίνηση. </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Lucida Sans Unicode"/>
              </a:rPr>
              <a:t>Π.χ. ο προπονητής λέει στον αθλητή να βεβαιωθεί, ότι εξακολουθεί να κινείται προς τον στόχο αφού κλωτσήσει τη μπάλα, αλλά ο αθλητής δεν έχει ιδέα τι εννοεί (δηλαδή, δίνει ελλιπή πληροφόρηση). </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Lucida Sans Unicode"/>
              </a:rPr>
              <a:t>Π.χ. ενδέχεται να αποδίδουν καλά, όταν ο προπονητής παρέχει ανατροφοδότηση, όταν όμως ο προπονητής δεν συμμετέχει, η επίδοσή τους μειώνεται (συνεχιζόμενη ανατροφοδότηση).</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Lucida Sans Unicode"/>
              </a:rPr>
              <a:t>Π.χ. όταν ο προπονητής παρέχει συνεχώς τρέχουσα ανατροφοδότηση, δηλαδή την ανατροφοδότηση που δίνεται στον αθλητή ενώ εκτελεί την κίνηση, η οποία επίσης εμποδίζει τον αθλητή από το να ανιχνεύσει τις δικές του αισθητηριακές πληροφορίες. </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100" spc="-1" strike="noStrike">
              <a:solidFill>
                <a:srgbClr val="464646"/>
              </a:solidFill>
              <a:latin typeface="Lucida Sans Unicode"/>
            </a:endParaRPr>
          </a:p>
        </p:txBody>
      </p:sp>
      <p:sp>
        <p:nvSpPr>
          <p:cNvPr id="42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700" spc="-1" strike="noStrike">
              <a:solidFill>
                <a:srgbClr val="000000"/>
              </a:solidFill>
              <a:latin typeface="Lucida Sans Unicode"/>
            </a:endParaRPr>
          </a:p>
        </p:txBody>
      </p:sp>
      <p:sp>
        <p:nvSpPr>
          <p:cNvPr id="428" name="WordArt 4"/>
          <p:cNvSpPr txBox="1"/>
          <p:nvPr/>
        </p:nvSpPr>
        <p:spPr>
          <a:xfrm>
            <a:off x="857160" y="1571760"/>
            <a:ext cx="7543800" cy="1981080"/>
          </a:xfrm>
          <a:prstGeom prst="rect">
            <a:avLst/>
          </a:prstGeom>
        </p:spPr>
        <p:txBody>
          <a:bodyPr wrap="none" fromWordArt="1" lIns="90000" rIns="90000" tIns="46800" bIns="46800" anchor="t" anchorCtr="1">
            <a:prstTxWarp prst="textArchUp">
              <a:avLst>
                <a:gd name="adj" fmla="val 108000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Σας ευχαριστώ</a:t>
            </a:r>
            <a:endParaRPr b="0" lang="en-US" sz="1800" spc="1" strike="noStrike">
              <a:ln w="9360">
                <a:solidFill>
                  <a:srgbClr val="000000"/>
                </a:solidFill>
                <a:miter/>
              </a:ln>
              <a:solidFill>
                <a:srgbClr val="000000"/>
              </a:solidFill>
              <a:latin typeface="Arial Black"/>
              <a:ea typeface="Arial Black"/>
            </a:endParaRPr>
          </a:p>
        </p:txBody>
      </p:sp>
      <p:sp>
        <p:nvSpPr>
          <p:cNvPr id="429" name="WordArt 5"/>
          <p:cNvSpPr txBox="1"/>
          <p:nvPr/>
        </p:nvSpPr>
        <p:spPr>
          <a:xfrm>
            <a:off x="785880" y="3429000"/>
            <a:ext cx="7848360" cy="15256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Greek"/>
              </a:rPr>
              <a:t>για την προσοχή σας</a:t>
            </a:r>
            <a:endParaRPr b="0" lang="en-US" sz="1800" spc="1" strike="noStrike">
              <a:ln w="9360">
                <a:solidFill>
                  <a:srgbClr val="000000"/>
                </a:solidFill>
                <a:miter/>
              </a:ln>
              <a:solidFill>
                <a:srgbClr val="000000"/>
              </a:solidFill>
              <a:latin typeface="Times New Roman Greek"/>
              <a:ea typeface="Times New Roman Gree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403848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Lucida Sans Unicode"/>
              </a:rPr>
              <a:t>Στη θετική ενίσχυση, η συμπεριφορά αυξάνεται, επειδή το άτομο δέχτηκε κάτι που εξέλαβε ως θετικό (π.χ., ένα γλύκισμα, μια βεβαίωση, ένα χρυσό αστέρι ή ένα μπλουζάκι) μετά την εκτέλεση της συμπεριφοράς.</a:t>
            </a:r>
            <a:endParaRPr b="0" lang="en-US" sz="2600" spc="-1" strike="noStrike">
              <a:solidFill>
                <a:srgbClr val="ffffff"/>
              </a:solidFill>
              <a:latin typeface="Lucida Sans Unicode"/>
            </a:endParaRPr>
          </a:p>
        </p:txBody>
      </p:sp>
      <p:sp>
        <p:nvSpPr>
          <p:cNvPr id="382" name=""/>
          <p:cNvSpPr txBox="1"/>
          <p:nvPr/>
        </p:nvSpPr>
        <p:spPr>
          <a:xfrm>
            <a:off x="4648320" y="1599840"/>
            <a:ext cx="4495680" cy="525780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Lucida Sans Unicode"/>
              </a:rPr>
              <a:t>Όταν η συμπεριφορά βελτιώνεται ή ενισχύεται, επειδή απομακρύνεται κάτι αρνητικό ή αποτρεπτικό για το άτομο, πρόκειται για αρνητική ενίσχυση. </a:t>
            </a:r>
            <a:endParaRPr b="0" lang="en-US" sz="2600" spc="-1" strike="noStrike">
              <a:solidFill>
                <a:srgbClr val="ffffff"/>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Lucida Sans Unicode"/>
              </a:rPr>
              <a:t>Όπως οι ενισχύσεις έχουν σκοπό να αυξήσουν την πιθανότητα εμφάνισης της συμπεριφοράς, οι τιμωρίες στοχεύουν στη μείωσή της. </a:t>
            </a:r>
            <a:endParaRPr b="0" lang="en-US" sz="2600" spc="-1" strike="noStrike">
              <a:solidFill>
                <a:srgbClr val="ffffff"/>
              </a:solidFill>
              <a:latin typeface="Lucida Sans Unicode"/>
            </a:endParaRPr>
          </a:p>
        </p:txBody>
      </p:sp>
      <p:pic>
        <p:nvPicPr>
          <p:cNvPr id="383" name="Τίτλος 1" descr=""/>
          <p:cNvPicPr/>
          <p:nvPr/>
        </p:nvPicPr>
        <p:blipFill>
          <a:blip r:embed="rId1"/>
          <a:stretch/>
        </p:blipFill>
        <p:spPr>
          <a:xfrm>
            <a:off x="573120" y="285840"/>
            <a:ext cx="8229600" cy="114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000000"/>
                </a:solidFill>
                <a:latin typeface="Lucida Sans Unicode"/>
              </a:rPr>
              <a:t>Υλικοί ενισχυτές </a:t>
            </a:r>
            <a:r>
              <a:rPr b="0" lang="el-GR" sz="2700" spc="-1" strike="noStrike">
                <a:solidFill>
                  <a:srgbClr val="000000"/>
                </a:solidFill>
                <a:latin typeface="Lucida Sans Unicode"/>
              </a:rPr>
              <a:t>είναι τα απτά στοιχεία που ένας μαθητής θα θεωρούσε επιθυμητά.</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000000"/>
                </a:solidFill>
                <a:latin typeface="Lucida Sans Unicode"/>
              </a:rPr>
              <a:t>Κοινωνικοί ενισχυτές </a:t>
            </a:r>
            <a:r>
              <a:rPr b="0" lang="el-GR" sz="2700" spc="-1" strike="noStrike">
                <a:solidFill>
                  <a:srgbClr val="000000"/>
                </a:solidFill>
                <a:latin typeface="Lucida Sans Unicode"/>
              </a:rPr>
              <a:t>είναι οι λιγότερο απτές εκδηλώσεις ή συμπεριφορές που δείχνουν αποδοχή από τους άλλους.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000000"/>
                </a:solidFill>
                <a:latin typeface="Lucida Sans Unicode"/>
              </a:rPr>
              <a:t>Ενισχυτές δραστηριότητας </a:t>
            </a:r>
            <a:r>
              <a:rPr b="0" lang="el-GR" sz="2700" spc="-1" strike="noStrike">
                <a:solidFill>
                  <a:srgbClr val="000000"/>
                </a:solidFill>
                <a:latin typeface="Lucida Sans Unicode"/>
              </a:rPr>
              <a:t>είναι δραστηριότητες ή εκδηλώσεις στις οποίες ο μαθητής απολαμβάνει τη συμμετοχή.</a:t>
            </a:r>
            <a:endParaRPr b="0" lang="en-US" sz="2700" spc="-1" strike="noStrike">
              <a:solidFill>
                <a:srgbClr val="000000"/>
              </a:solidFill>
              <a:latin typeface="Lucida Sans Unicode"/>
            </a:endParaRPr>
          </a:p>
        </p:txBody>
      </p:sp>
      <p:pic>
        <p:nvPicPr>
          <p:cNvPr id="385" name="Τίτλος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Lucida Sans Unicode"/>
              </a:rPr>
              <a:t>Δεν αντιδρούν όλοι οι αθλητές με τον ίδιο τρόπο στους ενισχυτές και στις τιμωρίες.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Lucida Sans Unicode"/>
              </a:rPr>
              <a:t>Μερικές δεξιότητες ή συμπεριφορές που ενισχύονται μπορεί να μη μπορούν να επαναληφθούν από τον αθλητή.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Lucida Sans Unicode"/>
              </a:rPr>
              <a:t>Είναι πολύ δύσκολο να γνωρίζει κανείς όλους τους ενισχυτές σε ένα περιβάλλον και το πώς αποτιμώνται από τον αθλητή. </a:t>
            </a:r>
            <a:endParaRPr b="0" lang="en-US" sz="2700" spc="-1" strike="noStrike">
              <a:solidFill>
                <a:srgbClr val="000000"/>
              </a:solidFill>
              <a:latin typeface="Lucida Sans Unicode"/>
            </a:endParaRPr>
          </a:p>
        </p:txBody>
      </p:sp>
      <p:pic>
        <p:nvPicPr>
          <p:cNvPr id="387" name="Τίτλος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2071440"/>
            <a:ext cx="8229600" cy="39351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Lucida Sans Unicode"/>
              </a:rPr>
              <a:t>Σύμφωνα με αυτή τη θεωρία, οι επιδράσεις των εξωτερικών επιβραβεύσεων στα εσωτερικά κίνητρα, εξαρτώνται από τον τρόπο που η επιβράβευση επηρεάζει τις αντιλήψεις του ατόμου για την ικανότητά του και τον αυτοπροσδιορισμό. </a:t>
            </a:r>
            <a:endParaRPr b="0" lang="en-US" sz="2700" spc="-1" strike="noStrike">
              <a:solidFill>
                <a:srgbClr val="000000"/>
              </a:solidFill>
              <a:latin typeface="Lucida Sans Unicode"/>
            </a:endParaRPr>
          </a:p>
        </p:txBody>
      </p:sp>
      <p:pic>
        <p:nvPicPr>
          <p:cNvPr id="389" name="Τίτλος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179280" y="2286000"/>
            <a:ext cx="8964720" cy="4572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Lucida Sans Unicode"/>
              </a:rPr>
              <a:t>Σε μια ανασκόπηση ερευνών για τα αποτελέσματα της ανατροφοδότησης από τον εκπαιδευτικό, οι Lee, Keh και Magill (1993) συμπέραναν, ότι η ανατροφοδότηση από τον εκπαιδευτικό </a:t>
            </a:r>
            <a:r>
              <a:rPr b="1" lang="el-GR" sz="2700" spc="-1" strike="noStrike">
                <a:solidFill>
                  <a:srgbClr val="000000"/>
                </a:solidFill>
                <a:latin typeface="Lucida Sans Unicode"/>
              </a:rPr>
              <a:t>δεν σχετίζεται πάντοτε με τη μακροπρόθεσμη επίδοση του μαθητή</a:t>
            </a:r>
            <a:r>
              <a:rPr b="0" lang="el-GR" sz="2700" spc="-1" strike="noStrike">
                <a:solidFill>
                  <a:srgbClr val="000000"/>
                </a:solidFill>
                <a:latin typeface="Lucida Sans Unicode"/>
              </a:rPr>
              <a:t> στις κινητικές δεξιότητες. Οι ερευνητές αυτοί βρήκαν, ότι η ανατροφοδότηση είχε μικρά, μηδενικά ή ακόμη και επιζήμια αποτελέσματα στην κινητική επίδοση των μαθητών.</a:t>
            </a:r>
            <a:endParaRPr b="0" lang="en-US" sz="2700" spc="-1" strike="noStrike">
              <a:solidFill>
                <a:srgbClr val="000000"/>
              </a:solidFill>
              <a:latin typeface="Lucida Sans Unicode"/>
            </a:endParaRPr>
          </a:p>
        </p:txBody>
      </p:sp>
      <p:pic>
        <p:nvPicPr>
          <p:cNvPr id="391" name="Τίτλος 1" descr=""/>
          <p:cNvPicPr/>
          <p:nvPr/>
        </p:nvPicPr>
        <p:blipFill>
          <a:blip r:embed="rId1"/>
          <a:stretch/>
        </p:blipFill>
        <p:spPr>
          <a:xfrm>
            <a:off x="426960" y="560520"/>
            <a:ext cx="8229600" cy="157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6840" y="1599840"/>
            <a:ext cx="8651880" cy="492444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Lucida Sans Unicode"/>
              </a:rPr>
              <a:t>Έχει αποδειχτεί ότι διάφοροι τύποι ανατροφοδότησης όπως η ανατροφοδότηση για το αποτέλεσμα της εκτέλεσης (Silverman, Tyson, &amp; Krampitz, 1992), η συγκεκριμένη ανατροφοδότηση για τα λάθη (Stroot &amp; Oslin, 1993), μια κρίσιμη, μεμονωμένη φράση που επαναλαμβάνεται στις οδηγίες για την εκτέλεση (Masser, 1993), η συγκεκριμένη, η διορθωτική και η ταυτόχρονη ανατροφοδότηση (Pelet &amp; Harrisson, 1995), έχουν θετική και άμεση επίδραση στην επιτυχημένη εξάσκηση των μαθητών.</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599840"/>
            <a:ext cx="8686800" cy="5257800"/>
          </a:xfrm>
          <a:prstGeom prst="rect">
            <a:avLst/>
          </a:prstGeom>
          <a:noFill/>
          <a:ln w="0">
            <a:noFill/>
          </a:ln>
        </p:spPr>
        <p:txBody>
          <a:bodyPr anchor="t">
            <a:normAutofit/>
          </a:bodyPr>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Lucida Sans Unicode"/>
              </a:rPr>
              <a:t>Κάθε επιβράβευση έχει μια </a:t>
            </a:r>
            <a:r>
              <a:rPr b="1" lang="el-GR" sz="2700" spc="-1" strike="noStrike">
                <a:solidFill>
                  <a:srgbClr val="000000"/>
                </a:solidFill>
                <a:latin typeface="Lucida Sans Unicode"/>
              </a:rPr>
              <a:t>ελεγκτική πλευρά </a:t>
            </a:r>
            <a:r>
              <a:rPr b="0" lang="el-GR" sz="2700" spc="-1" strike="noStrike">
                <a:solidFill>
                  <a:srgbClr val="000000"/>
                </a:solidFill>
                <a:latin typeface="Lucida Sans Unicode"/>
              </a:rPr>
              <a:t>και αυτή η πλευρά συγκρούεται με την επιθυμία του ατόμου να αυτοπροσδιορίζεται.</a:t>
            </a:r>
            <a:endParaRPr b="0" lang="en-US" sz="27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Lucida Sans Unicode"/>
              </a:rPr>
              <a:t>Κάθε επιβράβευση έχει μια </a:t>
            </a:r>
            <a:r>
              <a:rPr b="1" lang="el-GR" sz="2700" spc="-1" strike="noStrike">
                <a:solidFill>
                  <a:srgbClr val="000000"/>
                </a:solidFill>
                <a:latin typeface="Lucida Sans Unicode"/>
              </a:rPr>
              <a:t>ενημερωτική πλευρά </a:t>
            </a:r>
            <a:r>
              <a:rPr b="0" lang="el-GR" sz="2700" spc="-1" strike="noStrike">
                <a:solidFill>
                  <a:srgbClr val="000000"/>
                </a:solidFill>
                <a:latin typeface="Lucida Sans Unicode"/>
              </a:rPr>
              <a:t>που μπορεί να επηρεάσει τις αντιλήψεις του ατόμου για την ικανότητά του. </a:t>
            </a:r>
            <a:endParaRPr b="0" lang="en-US" sz="2700" spc="-1" strike="noStrike">
              <a:solidFill>
                <a:srgbClr val="000000"/>
              </a:solidFill>
              <a:latin typeface="Lucida Sans Unicode"/>
            </a:endParaRPr>
          </a:p>
        </p:txBody>
      </p:sp>
      <p:pic>
        <p:nvPicPr>
          <p:cNvPr id="395" name="Τίτλος 1" descr=""/>
          <p:cNvPicPr/>
          <p:nvPr/>
        </p:nvPicPr>
        <p:blipFill>
          <a:blip r:embed="rId1"/>
          <a:stretch/>
        </p:blipFill>
        <p:spPr>
          <a:xfrm>
            <a:off x="639720" y="360360"/>
            <a:ext cx="8229600" cy="113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7-28T15:38:37Z</dcterms:created>
  <dc:creator>bark</dc:creator>
  <dc:description/>
  <dc:language>en-US</dc:language>
  <cp:lastModifiedBy>user</cp:lastModifiedBy>
  <dcterms:modified xsi:type="dcterms:W3CDTF">2017-09-11T06:00:31Z</dcterms:modified>
  <cp:revision>1</cp:revision>
  <dc:subject/>
  <dc:title>Παροχή ανατροφοδότησης</dc:title>
</cp:coreProperties>
</file>