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43C-5CBA-45E3-9720-F55D2349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9D5-7BFC-4DEF-86E3-A28438A9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190-D463-44C8-BBB6-8E3A4609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18C-1CAA-43AB-9D97-C68307EA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899-6AD7-4895-A938-5C9ACA8C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342-A7E8-411B-AE0D-55FC08B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E28B-4647-474B-A987-7C28CF4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06E-C830-4DA1-8C6D-BCAF5C4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CC38-A606-463E-BD5A-7AB8A569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9E56-7AE6-4C4B-8ABD-0989B0DC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7671-C8A9-4378-82CD-15FCB36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92C-A806-45DC-9715-CD6181B5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B372-0F9B-4D6A-961D-4C30CF8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6753-276B-4C1B-922E-97A00FE8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2F90-5D93-42C9-8DA9-7EE9EEB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A7ED-3322-4D96-9908-421C5696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A04-A44D-42EC-8AAD-8E7F1F3F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822D-6572-4A82-8342-91E5F1AF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C19D-FC49-4174-B36F-F7077A5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83DB-ABC8-4420-BCEB-FA89342A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39DD-AFE4-49D2-B894-FE0C32F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9F17-B51F-46C4-83AC-DAEDC5A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EAA-0723-49FD-8D6A-42D64877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DF43-0150-45D5-A59E-35D9546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371B-ADE8-48D3-9C18-239FADF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B010-4ABE-4CE5-B2F1-C919E2A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F474-252C-49B5-84E7-27385E5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5B61-C40B-44D5-9F83-CA466A34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E779-DCEF-4FA4-A3AC-E0400707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BF2E-8C83-4363-B34D-E99145C0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D22F-FFAE-4BDB-BF4D-971028DF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1D89-9F5B-477A-B90A-DEFCEF9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DD6F-FE08-4503-AAFC-3DC3A9E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857-4754-4850-9B68-9280541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723D-D5BE-46E5-A6AF-A60ABB75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DEEE-E9B7-4E39-B53E-4C8763A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03D1-A642-4365-A25B-029D5EFE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85FA-5882-4A85-8819-7BB5691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418E-E55B-4020-B671-89BC11B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E18E-3800-4806-A03D-B0F6F8E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1C10-436E-4372-941E-9B4079F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A78C-27CE-4CFE-AC40-D8D58344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E6F6-19D1-4BA2-A359-939F017D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7A9-F761-41C9-A942-DA4A87C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194-3077-465A-90D7-8588A96E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143-ED20-48A0-8033-C28B3B5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94A-3802-48AC-8BD2-3DCE949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411-47FC-4C06-A63E-2A127CF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FFE-3A37-429C-8CFC-70A60251C25E}" type="slidenum">
              <a:rPr b="0" lang="el-G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- Ελεύθερη σχεδίαση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- Ελεύθερη σχεδίαση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- Ελεύθερη σχεδίαση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- Ελεύθερη σχεδίαση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2E20-2524-4467-806E-EC1567EA6353}" type="slidenum">
              <a:rPr b="0" lang="el-G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- Ελεύθερη σχεδίαση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- Ελεύθερη σχεδίαση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5FA-575A-4191-AD06-6A871EDDEC79}" type="slidenum">
              <a:rPr b="0" lang="el-G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- Ψαλίδισμα και στρογγύλεμα μίας γωνίας του ορθογωνίου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- Ορθογώνιο τρίγωνο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- Ελεύθερη σχεδίαση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- Ελεύθερη σχεδίαση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EFC-6699-4606-8AD9-E21533B903A1}" type="slidenum">
              <a:rPr b="0" lang="el-G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- Τίτλος" descr=""/>
          <p:cNvPicPr/>
          <p:nvPr/>
        </p:nvPicPr>
        <p:blipFill>
          <a:blip r:embed="rId1"/>
          <a:stretch/>
        </p:blipFill>
        <p:spPr>
          <a:xfrm>
            <a:off x="0" y="1712880"/>
            <a:ext cx="9163080" cy="1792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4240" y="400032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onstantia"/>
              </a:rPr>
              <a:t>Βασίλης Μπαρκούκη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ρακτικές μείω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7. Υπενθύμιση προθεσμιών-πίεση χρόνο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χνή χρήση υπενθυμίσεων για το χρόνο (π.χ., μας έμειναν λίγα λεπτά, δεν θα προλάβετε να παίξετ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8. Ενίσχυση της συμμόρφωσης με τις οδηγίες του προπονητ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πράβο, είσαι πολύ καλός αθλητής (όταν ο μαθητής/τρια εκτελεί την οδηγία του εκπαιδευτικού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9. Κριτική στο αθλητή/τρι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.χ., Όχι, πως το κάνεις έτσ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Στρατηγικές ενίσχυ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1. Χρόνος επαφή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ρόνος για συζήτηση με τους μαθητές/τριες για το μάθημ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2. Ερωτήσεις για το τι θέλουν να κάνουν οι αθλητές/τριε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πιλογή δραστηριότητα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πιλογή σειράς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πιλογή προθέρμανση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οιος θα δείξει την άσκησ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οιος θα χωριστεί για το παιχνίδ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Στρατηγικές ενίσχυ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3. Χρόνος στους αθλητές/τριες να δουλεύουν στο ρυθμό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αθορισμός στόχ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ρόνος να δουλέψουν στο στόχο του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ρήση της πρακτικής μεθόδου διδασκαλία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4. Ενεργός χρόνος μάθηση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ικρές ομάδ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υέλικτες οργανωτικές δομές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Στρατηγικές ενίσχυ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810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5. Διάταξη αθλητών/τριών – προπονητ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υκλική διάταξη στις διατάσει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πίβλεψη όλων των αθλητών/τριώ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νεχής κίνηση στην τάξ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www.conceptdraw.com/How-To-Guide/picture/basketball-court-dimensions/Sport-Basketball-Simple-basketball-court-Template.png"/>
          <p:cNvPicPr/>
          <p:nvPr/>
        </p:nvPicPr>
        <p:blipFill>
          <a:blip r:embed="rId1"/>
          <a:stretch/>
        </p:blipFill>
        <p:spPr>
          <a:xfrm>
            <a:off x="857160" y="3214800"/>
            <a:ext cx="7086600" cy="3448080"/>
          </a:xfrm>
          <a:prstGeom prst="rect">
            <a:avLst/>
          </a:prstGeom>
          <a:ln w="0">
            <a:noFill/>
          </a:ln>
        </p:spPr>
      </p:pic>
      <p:sp>
        <p:nvSpPr>
          <p:cNvPr id="204" name="4 - Αστέρι 5 ακτινών"/>
          <p:cNvSpPr/>
          <p:nvPr/>
        </p:nvSpPr>
        <p:spPr>
          <a:xfrm>
            <a:off x="1714680" y="3857760"/>
            <a:ext cx="357120" cy="28548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5 - Αστέρι 5 ακτινών"/>
          <p:cNvSpPr/>
          <p:nvPr/>
        </p:nvSpPr>
        <p:spPr>
          <a:xfrm>
            <a:off x="1714680" y="421488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6 - Αστέρι 5 ακτινών"/>
          <p:cNvSpPr/>
          <p:nvPr/>
        </p:nvSpPr>
        <p:spPr>
          <a:xfrm>
            <a:off x="2357280" y="421488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7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- Αστέρι 5 ακτινών"/>
          <p:cNvSpPr/>
          <p:nvPr/>
        </p:nvSpPr>
        <p:spPr>
          <a:xfrm>
            <a:off x="2286000" y="3857760"/>
            <a:ext cx="357120" cy="28548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- Αστέρι 5 ακτινών"/>
          <p:cNvSpPr/>
          <p:nvPr/>
        </p:nvSpPr>
        <p:spPr>
          <a:xfrm>
            <a:off x="1785960" y="5643720"/>
            <a:ext cx="357120" cy="28548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7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- Αστέρι 5 ακτινών"/>
          <p:cNvSpPr/>
          <p:nvPr/>
        </p:nvSpPr>
        <p:spPr>
          <a:xfrm>
            <a:off x="2286000" y="5643720"/>
            <a:ext cx="357120" cy="28548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- Αστέρι 5 ακτινών"/>
          <p:cNvSpPr/>
          <p:nvPr/>
        </p:nvSpPr>
        <p:spPr>
          <a:xfrm>
            <a:off x="2286000" y="528624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- Αστέρι 5 ακτινών"/>
          <p:cNvSpPr/>
          <p:nvPr/>
        </p:nvSpPr>
        <p:spPr>
          <a:xfrm>
            <a:off x="1714680" y="528624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2 - Αστέρι 5 ακτινών"/>
          <p:cNvSpPr/>
          <p:nvPr/>
        </p:nvSpPr>
        <p:spPr>
          <a:xfrm>
            <a:off x="6143760" y="428616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3 - Αστέρι 5 ακτινών"/>
          <p:cNvSpPr/>
          <p:nvPr/>
        </p:nvSpPr>
        <p:spPr>
          <a:xfrm>
            <a:off x="6643800" y="428616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7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4 - Αστέρι 5 ακτινών"/>
          <p:cNvSpPr/>
          <p:nvPr/>
        </p:nvSpPr>
        <p:spPr>
          <a:xfrm>
            <a:off x="6143760" y="392904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5 - Αστέρι 5 ακτινών"/>
          <p:cNvSpPr/>
          <p:nvPr/>
        </p:nvSpPr>
        <p:spPr>
          <a:xfrm>
            <a:off x="6643800" y="392904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7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6 - Αστέρι 5 ακτινών"/>
          <p:cNvSpPr/>
          <p:nvPr/>
        </p:nvSpPr>
        <p:spPr>
          <a:xfrm>
            <a:off x="6072120" y="600084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7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7 - Αστέρι 5 ακτινών"/>
          <p:cNvSpPr/>
          <p:nvPr/>
        </p:nvSpPr>
        <p:spPr>
          <a:xfrm>
            <a:off x="6572160" y="600084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8 - Αστέρι 5 ακτινών"/>
          <p:cNvSpPr/>
          <p:nvPr/>
        </p:nvSpPr>
        <p:spPr>
          <a:xfrm>
            <a:off x="6000840" y="557208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9 - Αστέρι 5 ακτινών"/>
          <p:cNvSpPr/>
          <p:nvPr/>
        </p:nvSpPr>
        <p:spPr>
          <a:xfrm>
            <a:off x="6572160" y="5572080"/>
            <a:ext cx="357120" cy="285840"/>
          </a:xfrm>
          <a:custGeom>
            <a:avLst/>
            <a:gdLst/>
            <a:ahLst/>
            <a:rect l="l" t="t" r="r" b="b"/>
            <a:pathLst>
              <a:path w="357188" h="285750">
                <a:moveTo>
                  <a:pt x="0" y="109147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7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21 - Ευθύγραμμο βέλος σύνδεσης"/>
          <p:cNvCxnSpPr/>
          <p:nvPr/>
        </p:nvCxnSpPr>
        <p:spPr>
          <a:xfrm>
            <a:off x="2928960" y="4286160"/>
            <a:ext cx="2929680" cy="1643760"/>
          </a:xfrm>
          <a:prstGeom prst="straightConnector1">
            <a:avLst/>
          </a:prstGeom>
          <a:ln w="255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21" name="22 - Ευθύγραμμο βέλος σύνδεσης"/>
          <p:cNvCxnSpPr/>
          <p:nvPr/>
        </p:nvCxnSpPr>
        <p:spPr>
          <a:xfrm flipV="1">
            <a:off x="2714400" y="4428360"/>
            <a:ext cx="3143880" cy="1143720"/>
          </a:xfrm>
          <a:prstGeom prst="straightConnector1">
            <a:avLst/>
          </a:prstGeom>
          <a:ln w="255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222" name="27 - Ευθύγραμμο βέλος σύνδεσης"/>
          <p:cNvCxnSpPr/>
          <p:nvPr/>
        </p:nvCxnSpPr>
        <p:spPr>
          <a:xfrm flipH="1">
            <a:off x="7286400" y="4430880"/>
            <a:ext cx="2160" cy="1429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23" name="28 - Ευθύγραμμο βέλος σύνδεσης"/>
          <p:cNvCxnSpPr/>
          <p:nvPr/>
        </p:nvCxnSpPr>
        <p:spPr>
          <a:xfrm>
            <a:off x="2785680" y="3857760"/>
            <a:ext cx="3143880" cy="2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Στρατηγικές ενίσχυ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6. Αιτιολόγηση δραστηριοτήτω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ειρά διδακτικών αντικειμέν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ναγκαιότητα εκτέλεσης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ειρά εκτέλεσης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7. Χρήση ενίσχυση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ε όλους τους αθλητές/τρι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Βελτίωση και όχι μόνο απόδοσ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ροσπάθεια και όχι μόνο αποτέλεσμ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έσα και έξω από το προπόνησ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Στρατηγικές ενίσχυ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8. Ανατροφοδότησ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Τεχνικές οδηγίες σε όλους τους αθλητές/τρι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ατά την εκτέλεση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ατά τη διάρκεια του παιχνιδιο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Υποδείξεις της σωστής τεχνικής και τακτική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9. Σχέση με αθλητές/τριε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παντήσεις σε όλες τις ερωτήσει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παντήσεις με θετικό τρόπ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ναγνώριση της δυσκολίας των ασκήσε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ρακτικές μείω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1. Ο προπονητής κυριαρχεί κατά την αλληλεπίδραση του με τους αθλητές/τριε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ιλάει περισσότερο και δεν ακούει τους αθλητές/τρι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μμετέχει στις ασκήσεις/παιχνίδια και τα μονοπωλε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2. Επίλυση προβλημάτω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Ο προπονητής επιδεικνύει τις σωστές λύσεις, χωρίς να αφήσει χρόνο στο αθλητή/τρια να δοκιμάσε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ρακτικές μείω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3. Έντονη καθοδήγηση των αθλητών/τριών σε συγκεκριμένες λύσει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ποφυγή μεθόδων που διεγείρουν τη φαντασία των αθλητών/τριώ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ράσεις όπως ‘Η άσκηση γίνεται σωστά μόνο με αυτόν τον τρόπο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4. Συνεχής καθοδήγηση αθλητών/τριώ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νεχής χρήση οδηγιών (π.χ. πήγαινε εκεί, πάσαρε, σούταρε κλπ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ρακτικές μείωσης του κλίματος αυτονομία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5. Χρήση οδηγιών που δηλώνουν υποχρέωσ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χνή χρήση οδηγιών που υπενθυμίζουν στους μαθητές/τριες τις υποχρεώσεις τους (π.χ. η προπόνηση είναι υποχρεωτική αλλιώς παίρνεις απουσία, είσαι υποχρεωμένος/η να φοράς στολή, κλπ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ράσεις όπως ‘Η άσκηση γίνεται σωστά μόνο με αυτόν τον τρόπο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6. Χρήση υποβολιμαίων ερωτήσεω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.χ. Γιατί δεν μας δείχνεις εσύ πως γίνεται; Μπορείς να το κάνεις όπως το έδειξα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8T15:42:39Z</dcterms:created>
  <dc:creator>bark</dc:creator>
  <dc:description/>
  <dc:language>en-US</dc:language>
  <cp:lastModifiedBy>user</cp:lastModifiedBy>
  <dcterms:modified xsi:type="dcterms:W3CDTF">2017-09-11T06:02:28Z</dcterms:modified>
  <cp:revision>2</cp:revision>
  <dc:subject/>
  <dc:title>Στρατηγικές προώθησης ενός κλίματος αυτονομίας</dc:title>
</cp:coreProperties>
</file>