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50FAB-4B67-4242-B79D-516DE0E92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B245-4405-4656-BA21-273C9EAA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8804A-F154-47C6-B9E2-13E423504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BADE8-BE07-4F9B-ACE7-E0EC9BBC9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18F26-533C-4596-A80D-B1CB0D0D2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7761A-C114-4218-B44F-DD378FD21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D79AF-620A-40DE-8832-D30C81757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82D0-8DD6-4060-A303-1869A1268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59E2D-E955-407E-BEBE-5726DB8C2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E5A9C-A826-4B09-8061-9FD8A6441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64F4-418F-4259-80C4-3146600C9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103C6-1926-430D-978A-6FBF1398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F340E-8885-4BB8-8816-F89C67AEC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7C122-7B6B-4DBC-8E8B-0C122822B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44AD3-5373-4B6F-988F-6ACFCC820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A7C21-B326-49EA-8EF4-A55523982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929FE-75F6-444B-86FD-D1FEF5267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3796-2D97-432E-AC4C-38F29B8B3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5222-814E-4F6B-B995-5BB073AC8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1783-ECED-4588-9BC0-4BE520A35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58011-4C21-48F4-A85C-E1DBFE89F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B91D-3C47-4C26-8D13-1DEE30ABC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3750-BAA7-4A55-B66C-D196315D7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D2E6-C641-43AC-AC55-DE6FC2EE2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080"/>
              </a:gs>
              <a:gs pos="100000">
                <a:srgbClr val="00707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080"/>
                  </a:gs>
                  <a:gs pos="100000">
                    <a:srgbClr val="007474"/>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474"/>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7c7c"/>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878"/>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c6c"/>
                  </a:gs>
                  <a:gs pos="100000">
                    <a:srgbClr val="00808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080"/>
                  </a:gs>
                  <a:gs pos="100000">
                    <a:srgbClr val="00707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7878"/>
                  </a:gs>
                  <a:gs pos="100000">
                    <a:srgbClr val="00808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070"/>
                  </a:gs>
                  <a:gs pos="100000">
                    <a:srgbClr val="008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070"/>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7878"/>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070"/>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080"/>
                  </a:gs>
                  <a:gs pos="100000">
                    <a:srgbClr val="007474"/>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47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080"/>
                  </a:gs>
                  <a:gs pos="100000">
                    <a:srgbClr val="006c6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080"/>
                  </a:gs>
                  <a:gs pos="100000">
                    <a:srgbClr val="00747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080"/>
                  </a:gs>
                  <a:gs pos="100000">
                    <a:srgbClr val="0069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787"/>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484"/>
                  </a:gs>
                  <a:gs pos="100000">
                    <a:srgbClr val="008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7878"/>
                  </a:gs>
                  <a:gs pos="100000">
                    <a:srgbClr val="008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7878"/>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7c7c"/>
                  </a:gs>
                  <a:gs pos="100000">
                    <a:srgbClr val="008080"/>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080"/>
                    </a:gs>
                    <a:gs pos="100000">
                      <a:srgbClr val="006666"/>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5b5c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1ace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C67F-8C62-40D4-9D56-E359E5CC3CC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080"/>
                  </a:gs>
                  <a:gs pos="100000">
                    <a:srgbClr val="007474"/>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474"/>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7c7c"/>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878"/>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c6c"/>
                  </a:gs>
                  <a:gs pos="100000">
                    <a:srgbClr val="00808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080"/>
                  </a:gs>
                  <a:gs pos="100000">
                    <a:srgbClr val="00707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7878"/>
                  </a:gs>
                  <a:gs pos="100000">
                    <a:srgbClr val="00808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070"/>
                  </a:gs>
                  <a:gs pos="100000">
                    <a:srgbClr val="008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070"/>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7878"/>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070"/>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080"/>
                  </a:gs>
                  <a:gs pos="100000">
                    <a:srgbClr val="007474"/>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47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080"/>
                  </a:gs>
                  <a:gs pos="100000">
                    <a:srgbClr val="006c6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080"/>
                  </a:gs>
                  <a:gs pos="100000">
                    <a:srgbClr val="00747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080"/>
                  </a:gs>
                  <a:gs pos="100000">
                    <a:srgbClr val="0069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080"/>
                  </a:gs>
                  <a:gs pos="100000">
                    <a:srgbClr val="00707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787"/>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484"/>
                  </a:gs>
                  <a:gs pos="100000">
                    <a:srgbClr val="008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484"/>
                  </a:gs>
                  <a:gs pos="100000">
                    <a:srgbClr val="008080"/>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7878"/>
                  </a:gs>
                  <a:gs pos="100000">
                    <a:srgbClr val="008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484"/>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7878"/>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7c7c"/>
                  </a:gs>
                  <a:gs pos="100000">
                    <a:srgbClr val="008080"/>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080"/>
                    </a:gs>
                    <a:gs pos="100000">
                      <a:srgbClr val="0066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666"/>
                    </a:gs>
                    <a:gs pos="100000">
                      <a:srgbClr val="008080"/>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080"/>
                    </a:gs>
                    <a:gs pos="100000">
                      <a:srgbClr val="006666"/>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5b5c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1ace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24D2-4669-4744-99BB-99926043D7DB}"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cc"/>
                </a:solidFill>
                <a:latin typeface="Arial"/>
              </a:rPr>
              <a:t>Στρατηγικές αντιμετώπισης του στρες</a:t>
            </a:r>
            <a:endParaRPr b="0" lang="en-US" sz="5400" spc="-1" strike="noStrike">
              <a:solidFill>
                <a:srgbClr val="ffffcc"/>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Χαράλαμπος Τσορμπατζούδης</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ΕΦΑΑ-ΑΠ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04640"/>
            <a:ext cx="9144000" cy="72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Arial"/>
              </a:rPr>
              <a:t>Τρόποι αντιμετώπισης</a:t>
            </a:r>
            <a:br>
              <a:rPr sz="4000"/>
            </a:br>
            <a:endParaRPr b="0" lang="en-US" sz="4400" spc="-1" strike="noStrike">
              <a:solidFill>
                <a:srgbClr val="ffffcc"/>
              </a:solidFill>
              <a:latin typeface="Arial"/>
            </a:endParaRPr>
          </a:p>
        </p:txBody>
      </p:sp>
      <p:sp>
        <p:nvSpPr>
          <p:cNvPr id="227" name="PlaceHolder 2"/>
          <p:cNvSpPr>
            <a:spLocks noGrp="1"/>
          </p:cNvSpPr>
          <p:nvPr>
            <p:ph/>
          </p:nvPr>
        </p:nvSpPr>
        <p:spPr>
          <a:xfrm>
            <a:off x="289080" y="1339560"/>
            <a:ext cx="8386560" cy="5041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Ορισμένοι ερευνητές διακρίνουν δυο κύριες κατευθύνσεις της αντιμετώπισης: την </a:t>
            </a:r>
            <a:r>
              <a:rPr b="1" i="1" lang="el-GR" sz="2800" spc="-1" strike="noStrike">
                <a:solidFill>
                  <a:srgbClr val="ffffff"/>
                </a:solidFill>
                <a:latin typeface="Arial"/>
              </a:rPr>
              <a:t>προσέγγιση</a:t>
            </a:r>
            <a:r>
              <a:rPr b="0" lang="el-GR" sz="2800" spc="-1" strike="noStrike">
                <a:solidFill>
                  <a:srgbClr val="ffffff"/>
                </a:solidFill>
                <a:latin typeface="Arial"/>
              </a:rPr>
              <a:t> και την </a:t>
            </a:r>
            <a:r>
              <a:rPr b="1" i="1" lang="el-GR" sz="2800" spc="-1" strike="noStrike">
                <a:solidFill>
                  <a:srgbClr val="ffffff"/>
                </a:solidFill>
                <a:latin typeface="Arial"/>
              </a:rPr>
              <a:t>αποφυγή</a:t>
            </a:r>
            <a:r>
              <a:rPr b="0" lang="el-GR" sz="2800" spc="-1" strike="noStrike">
                <a:solidFill>
                  <a:srgbClr val="ffffff"/>
                </a:solidFill>
                <a:latin typeface="Arial"/>
              </a:rPr>
              <a:t> ("</a:t>
            </a:r>
            <a:r>
              <a:rPr b="0" lang="en-US" sz="2800" spc="-1" strike="noStrike">
                <a:solidFill>
                  <a:srgbClr val="ffffff"/>
                </a:solidFill>
                <a:latin typeface="Arial"/>
              </a:rPr>
              <a:t>approach</a:t>
            </a:r>
            <a:r>
              <a:rPr b="0" lang="el-GR" sz="2800" spc="-1" strike="noStrike">
                <a:solidFill>
                  <a:srgbClr val="ffffff"/>
                </a:solidFill>
                <a:latin typeface="Arial"/>
              </a:rPr>
              <a:t>-</a:t>
            </a:r>
            <a:r>
              <a:rPr b="0" lang="en-US" sz="2800" spc="-1" strike="noStrike">
                <a:solidFill>
                  <a:srgbClr val="ffffff"/>
                </a:solidFill>
                <a:latin typeface="Arial"/>
              </a:rPr>
              <a:t>avoidance</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a:t>
            </a:r>
            <a:r>
              <a:rPr b="0" lang="el-GR" sz="2800" spc="-1" strike="noStrike">
                <a:solidFill>
                  <a:srgbClr val="ffcc66"/>
                </a:solidFill>
                <a:latin typeface="Arial"/>
              </a:rPr>
              <a:t>προσέγγιση</a:t>
            </a:r>
            <a:r>
              <a:rPr b="0" lang="el-GR" sz="2800" spc="-1" strike="noStrike">
                <a:solidFill>
                  <a:srgbClr val="ffffff"/>
                </a:solidFill>
                <a:latin typeface="Arial"/>
              </a:rPr>
              <a:t> προσανατολίζεται στην αντιπαράθεση και την αντιμετώπιση της στρεσογόνου κατάστασης και της γνωστικής και συναισθηματικής εσωτερίκευσής της. </a:t>
            </a:r>
            <a:endParaRPr b="0" lang="en-US" sz="2800" spc="-1" strike="noStrike">
              <a:solidFill>
                <a:srgbClr val="ffffff"/>
              </a:solidFill>
              <a:latin typeface="Arial"/>
            </a:endParaRPr>
          </a:p>
          <a:p>
            <a:pPr marL="343080" indent="-343080">
              <a:lnSpc>
                <a:spcPct val="90000"/>
              </a:lnSpc>
              <a:spcBef>
                <a:spcPts val="700"/>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a:t>
            </a:r>
            <a:r>
              <a:rPr b="0" lang="el-GR" sz="2800" spc="-1" strike="noStrike">
                <a:solidFill>
                  <a:srgbClr val="ffcc66"/>
                </a:solidFill>
                <a:latin typeface="Arial"/>
              </a:rPr>
              <a:t>αποφυγή</a:t>
            </a:r>
            <a:r>
              <a:rPr b="0" lang="el-GR" sz="2800" spc="-1" strike="noStrike">
                <a:solidFill>
                  <a:srgbClr val="ffffff"/>
                </a:solidFill>
                <a:latin typeface="Arial"/>
              </a:rPr>
              <a:t> προσανατολίζεται στην αποφυγή, την απομάκρυνση από την απειλή.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000" y="1052640"/>
            <a:ext cx="8675640" cy="5805360"/>
          </a:xfrm>
          <a:prstGeom prst="rect">
            <a:avLst/>
          </a:prstGeom>
          <a:noFill/>
          <a:ln w="0">
            <a:noFill/>
          </a:ln>
        </p:spPr>
        <p:txBody>
          <a:bodyPr anchor="t">
            <a:normAutofit/>
          </a:bodyPr>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Και οι δύο κατευθύνσεις συνεπάγονται κάποιο πιθανό κόστος και όφελος. </a:t>
            </a:r>
            <a:endParaRPr b="0" lang="en-US" sz="2700" spc="-1" strike="noStrike">
              <a:solidFill>
                <a:srgbClr val="ffffff"/>
              </a:solidFill>
              <a:latin typeface="Arial"/>
            </a:endParaRPr>
          </a:p>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Η προσέγγιση επιτρέπει στο άτομο να ενεργήσει ανάλογα και να αποφορτιστεί συναισθηματικά, αλλά μπορεί επίσης να οδηγήσει σε αυξημένη και μη παραγωγική ανησυχία. </a:t>
            </a:r>
            <a:endParaRPr b="0" lang="en-US" sz="2700" spc="-1" strike="noStrike">
              <a:solidFill>
                <a:srgbClr val="ffffff"/>
              </a:solidFill>
              <a:latin typeface="Arial"/>
            </a:endParaRPr>
          </a:p>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Η αποφυγή μπορεί να μειώσει το άγχος, αλλά μπορεί ακόμη, επειδή δεν επιτρέπει το άτομο να προβεί σε μια απαραίτητη ενέργεια, να οδηγήσει σε συμπεριφορές που αποδιοργανώνουν το άτομο και προκαλούν συναισθηματικό "μούδιασμα" (</a:t>
            </a:r>
            <a:r>
              <a:rPr b="0" lang="en-US" sz="2700" spc="-1" strike="noStrike">
                <a:solidFill>
                  <a:srgbClr val="ffffff"/>
                </a:solidFill>
                <a:latin typeface="Arial"/>
              </a:rPr>
              <a:t>Roth</a:t>
            </a:r>
            <a:r>
              <a:rPr b="0" lang="el-GR" sz="2700" spc="-1" strike="noStrike">
                <a:solidFill>
                  <a:srgbClr val="ffffff"/>
                </a:solidFill>
                <a:latin typeface="Arial"/>
              </a:rPr>
              <a:t> &amp; </a:t>
            </a:r>
            <a:r>
              <a:rPr b="0" lang="en-US" sz="2700" spc="-1" strike="noStrike">
                <a:solidFill>
                  <a:srgbClr val="ffffff"/>
                </a:solidFill>
                <a:latin typeface="Arial"/>
              </a:rPr>
              <a:t>Cohen</a:t>
            </a:r>
            <a:r>
              <a:rPr b="0" lang="el-GR" sz="2700" spc="-1" strike="noStrike">
                <a:solidFill>
                  <a:srgbClr val="ffffff"/>
                </a:solidFill>
                <a:latin typeface="Arial"/>
              </a:rPr>
              <a:t>, 1986).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29" name="Ορθογώνιο 1"/>
          <p:cNvSpPr/>
          <p:nvPr/>
        </p:nvSpPr>
        <p:spPr>
          <a:xfrm>
            <a:off x="1908000" y="189000"/>
            <a:ext cx="5185080" cy="718920"/>
          </a:xfrm>
          <a:prstGeom prst="rect">
            <a:avLst/>
          </a:prstGeom>
          <a:solidFill>
            <a:srgbClr val="0099ff"/>
          </a:solidFill>
          <a:ln w="25560">
            <a:solidFill>
              <a:srgbClr val="00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Ερευνητικά δεδομέν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5920"/>
            <a:ext cx="8229600" cy="113976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Arial"/>
              </a:rPr>
              <a:t>Πλαίσιο ερμηνείας των τρόπων αντιμετώπισης</a:t>
            </a:r>
            <a:endParaRPr b="0" lang="en-US" sz="3600" spc="-1" strike="noStrike">
              <a:solidFill>
                <a:srgbClr val="ffffcc"/>
              </a:solidFill>
              <a:latin typeface="Arial"/>
            </a:endParaRPr>
          </a:p>
        </p:txBody>
      </p:sp>
      <p:sp>
        <p:nvSpPr>
          <p:cNvPr id="231" name="PlaceHolder 2"/>
          <p:cNvSpPr>
            <a:spLocks noGrp="1"/>
          </p:cNvSpPr>
          <p:nvPr>
            <p:ph/>
          </p:nvPr>
        </p:nvSpPr>
        <p:spPr>
          <a:xfrm>
            <a:off x="0" y="1412640"/>
            <a:ext cx="9144000" cy="5257800"/>
          </a:xfrm>
          <a:prstGeom prst="rect">
            <a:avLst/>
          </a:prstGeom>
          <a:noFill/>
          <a:ln w="0">
            <a:noFill/>
          </a:ln>
        </p:spPr>
        <p:txBody>
          <a:bodyPr anchor="t">
            <a:normAutofit/>
          </a:bodyPr>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Arial"/>
              </a:rPr>
              <a:t>Υπόθεση της προδιάθεσης</a:t>
            </a:r>
            <a:r>
              <a:rPr b="0" lang="el-GR" sz="2700" spc="-1" strike="noStrike">
                <a:solidFill>
                  <a:srgbClr val="ffffff"/>
                </a:solidFill>
                <a:latin typeface="Arial"/>
              </a:rPr>
              <a:t>: υπάρχει συγκεκριμένος, μαθημένος ή έμφυτος τρόπος αντιμετώπισης όλων των καταστάσεων που σχετίζονται με το στρες.</a:t>
            </a:r>
            <a:endParaRPr b="0" lang="en-US" sz="2700" spc="-1" strike="noStrike">
              <a:solidFill>
                <a:srgbClr val="ffffff"/>
              </a:solidFill>
              <a:latin typeface="Arial"/>
            </a:endParaRPr>
          </a:p>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Arial"/>
              </a:rPr>
              <a:t>Δυναμική υπόθεση</a:t>
            </a:r>
            <a:r>
              <a:rPr b="0" lang="el-GR" sz="2700" spc="-1" strike="noStrike">
                <a:solidFill>
                  <a:srgbClr val="ffffff"/>
                </a:solidFill>
                <a:latin typeface="Arial"/>
              </a:rPr>
              <a:t>: οι αντιδράσεις των αθλητών για την αντιμετώπιση του στρες, είναι ρευστές και αλλάζουν ανάλογα με την κατάσταση.</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Οι αθλητές χρησιμοποιούν δυναμική και όχι προδιαθεσική προσέγγιση. Διαφορετικές καταστάσεις απαιτούν διαφορετικές εφαρμογές στρατηγικών αντιμετώπισης</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4560" y="277920"/>
            <a:ext cx="91090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Arial"/>
              </a:rPr>
              <a:t>Παράγοντες που αυξάνουν την δυνατότητα γενίκευσης ψυχολογικών δεξιοτήτων αντιμετώπισης του στρες</a:t>
            </a:r>
            <a:endParaRPr b="0" lang="en-US" sz="3200" spc="-1" strike="noStrike">
              <a:solidFill>
                <a:srgbClr val="ffffcc"/>
              </a:solidFill>
              <a:latin typeface="Arial"/>
            </a:endParaRPr>
          </a:p>
        </p:txBody>
      </p:sp>
      <p:sp>
        <p:nvSpPr>
          <p:cNvPr id="233" name="PlaceHolder 2"/>
          <p:cNvSpPr>
            <a:spLocks noGrp="1"/>
          </p:cNvSpPr>
          <p:nvPr>
            <p:ph/>
          </p:nvPr>
        </p:nvSpPr>
        <p:spPr>
          <a:xfrm>
            <a:off x="324000" y="1915920"/>
            <a:ext cx="8820000" cy="4941720"/>
          </a:xfrm>
          <a:prstGeom prst="rect">
            <a:avLst/>
          </a:prstGeom>
          <a:noFill/>
          <a:ln w="0">
            <a:noFill/>
          </a:ln>
        </p:spPr>
        <p:txBody>
          <a:bodyPr anchor="t">
            <a:normAutofit/>
          </a:bodyPr>
          <a:p>
            <a:pPr marL="609480" indent="-609480">
              <a:spcBef>
                <a:spcPts val="675"/>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Αναγνώριση των κοινών στοιχείων των ερεθισμάτων που προκαλούν στρες.</a:t>
            </a:r>
            <a:endParaRPr b="0" lang="en-US" sz="2700" spc="-1" strike="noStrike">
              <a:solidFill>
                <a:srgbClr val="ffffff"/>
              </a:solidFill>
              <a:latin typeface="Arial"/>
            </a:endParaRPr>
          </a:p>
          <a:p>
            <a:pPr marL="609480" indent="-609480">
              <a:spcBef>
                <a:spcPts val="675"/>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Διεύρυνση της εφαρμογής μιας ψυχολογικής δεξιότητας για την αντιμετώπιση του στρες</a:t>
            </a:r>
            <a:endParaRPr b="0" lang="en-US" sz="2700" spc="-1" strike="noStrike">
              <a:solidFill>
                <a:srgbClr val="ffffff"/>
              </a:solidFill>
              <a:latin typeface="Arial"/>
            </a:endParaRPr>
          </a:p>
          <a:p>
            <a:pPr marL="609480" indent="-609480">
              <a:spcBef>
                <a:spcPts val="675"/>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Η σημασία που αποδίδει το άτομο στην εφαρμογή της αντιμετώπισης του στρες</a:t>
            </a:r>
            <a:endParaRPr b="0" lang="en-US" sz="2700" spc="-1" strike="noStrike">
              <a:solidFill>
                <a:srgbClr val="ffffff"/>
              </a:solidFill>
              <a:latin typeface="Arial"/>
            </a:endParaRPr>
          </a:p>
          <a:p>
            <a:pPr marL="609480" indent="-609480">
              <a:spcBef>
                <a:spcPts val="675"/>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Σχέση με εσωτερική εστία ελέγχου της ψυχ. δεξιότητας αντιμετώπισης του στρες</a:t>
            </a:r>
            <a:endParaRPr b="0" lang="en-US" sz="2700" spc="-1" strike="noStrike">
              <a:solidFill>
                <a:srgbClr val="ffffff"/>
              </a:solidFill>
              <a:latin typeface="Arial"/>
            </a:endParaRPr>
          </a:p>
          <a:p>
            <a:pPr marL="609480" indent="-609480">
              <a:spcBef>
                <a:spcPts val="675"/>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Μαθημένη εφευρετικότητα</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Arial"/>
              </a:rPr>
              <a:t>Εφαρμογή</a:t>
            </a:r>
            <a:endParaRPr b="0" lang="en-US" sz="4400" spc="-1" strike="noStrike">
              <a:solidFill>
                <a:srgbClr val="ffffcc"/>
              </a:solidFill>
              <a:latin typeface="Arial"/>
            </a:endParaRPr>
          </a:p>
        </p:txBody>
      </p:sp>
      <p:sp>
        <p:nvSpPr>
          <p:cNvPr id="235" name="PlaceHolder 2"/>
          <p:cNvSpPr>
            <a:spLocks noGrp="1"/>
          </p:cNvSpPr>
          <p:nvPr>
            <p:ph/>
          </p:nvPr>
        </p:nvSpPr>
        <p:spPr>
          <a:xfrm>
            <a:off x="457200" y="1412640"/>
            <a:ext cx="8686800" cy="5445000"/>
          </a:xfrm>
          <a:prstGeom prst="rect">
            <a:avLst/>
          </a:prstGeom>
          <a:noFill/>
          <a:ln w="0">
            <a:noFill/>
          </a:ln>
        </p:spPr>
        <p:txBody>
          <a:bodyPr anchor="t">
            <a:normAutofit/>
          </a:bodyPr>
          <a:p>
            <a:pPr marL="343080" indent="-343080">
              <a:spcBef>
                <a:spcPts val="700"/>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ι κορυφαίοι αθλητές τείνουν να χρησιμοποιούν τρόπους αντιμετώπισης που βασίζονται στην προσέγγιση.</a:t>
            </a:r>
            <a:endParaRPr b="0" lang="en-US" sz="2800" spc="-1" strike="noStrike">
              <a:solidFill>
                <a:srgbClr val="ffffff"/>
              </a:solidFill>
              <a:latin typeface="Arial"/>
            </a:endParaRPr>
          </a:p>
          <a:p>
            <a:pPr marL="343080" indent="-343080">
              <a:spcBef>
                <a:spcPts val="700"/>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ι προπονητές πρέπει να ξέρουν ότι οι στρατηγικές αντιμετώπισης διαφέρουν σε μεγάλο βαθμό από κατάσταση σε κατάσταση και από αθλητή σε αθλητή. </a:t>
            </a:r>
            <a:endParaRPr b="0" lang="en-US" sz="2800" spc="-1" strike="noStrike">
              <a:solidFill>
                <a:srgbClr val="ffffff"/>
              </a:solidFill>
              <a:latin typeface="Arial"/>
            </a:endParaRPr>
          </a:p>
          <a:p>
            <a:pPr lvl="1" marL="743040" indent="-285840">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πομένως ο προπονητής πρέπει να βοηθήσει τον αθλητή να αναγνωρίσει τις στρατηγικές αντιμετώπισης με τις οποίες αισθάνεται αποτελεσματικός και τις οποίες μπορεί να ελέγξει ατομικά.</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2708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Arial"/>
              </a:rPr>
              <a:t>ΕΥΧΑΡΙΣΤΩ!</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0" y="415440"/>
            <a:ext cx="9144000" cy="6442200"/>
          </a:xfrm>
          <a:prstGeom prst="rect">
            <a:avLst/>
          </a:prstGeom>
          <a:noFill/>
          <a:ln w="0">
            <a:noFill/>
          </a:ln>
        </p:spPr>
        <p:txBody>
          <a:bodyPr anchor="t">
            <a:normAutofit/>
          </a:bodyPr>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Επειδή, το στρες και το άγχος είναι παράγοντες που εμποδίζουν την απόδοση και κυρίως την υψηλή απόδοση, οι ψυχολόγοι προσπάθησαν να μελετήσουν τους τρόπους που χρησιμοποιούν οι άνθρωποι για να αντιμετωπίσουν τις στρεσογόνες καταστάσεις.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Ο </a:t>
            </a:r>
            <a:r>
              <a:rPr b="0" lang="en-US" sz="2700" spc="-1" strike="noStrike">
                <a:solidFill>
                  <a:srgbClr val="ffffff"/>
                </a:solidFill>
                <a:latin typeface="Arial"/>
              </a:rPr>
              <a:t>Jack Donohue</a:t>
            </a:r>
            <a:r>
              <a:rPr b="0" lang="el-GR" sz="2700" spc="-1" strike="noStrike">
                <a:solidFill>
                  <a:srgbClr val="ffffff"/>
                </a:solidFill>
                <a:latin typeface="Arial"/>
              </a:rPr>
              <a:t> (Ολυμπιακός προπονητής της ομάδας της καλαθοσφαίρισης του Καναδά) αναφέρει χαρακτηριστικά: </a:t>
            </a:r>
            <a:r>
              <a:rPr b="0" lang="el-GR" sz="2700" spc="-1" strike="noStrike">
                <a:solidFill>
                  <a:srgbClr val="ffff00"/>
                </a:solidFill>
                <a:latin typeface="Arial"/>
              </a:rPr>
              <a:t>"το πώς αντιδράς σε αυτό που σου συμβαίνει είναι πολύ πιο σημαντικό από αυτό που σου συμβαίνει</a:t>
            </a:r>
            <a:r>
              <a:rPr b="0" lang="en-US" sz="2700" spc="-1" strike="noStrike">
                <a:solidFill>
                  <a:srgbClr val="ffff00"/>
                </a:solidFill>
                <a:latin typeface="Arial"/>
              </a:rPr>
              <a: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00"/>
                </a:solidFill>
                <a:latin typeface="Arial"/>
              </a:rPr>
              <a:t>Μια θεωρητική εξήγηση</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Arial"/>
              </a:rPr>
              <a:t>Θεωρία ομοιόστασης</a:t>
            </a:r>
            <a:endParaRPr b="0" lang="en-US" sz="4400" spc="-1" strike="noStrike">
              <a:solidFill>
                <a:srgbClr val="ffffcc"/>
              </a:solidFill>
              <a:latin typeface="Arial"/>
            </a:endParaRPr>
          </a:p>
        </p:txBody>
      </p:sp>
      <p:sp>
        <p:nvSpPr>
          <p:cNvPr id="215" name=""/>
          <p:cNvSpPr txBox="1"/>
          <p:nvPr/>
        </p:nvSpPr>
        <p:spPr>
          <a:xfrm>
            <a:off x="0" y="1125360"/>
            <a:ext cx="9144000" cy="5732640"/>
          </a:xfrm>
          <a:prstGeom prst="rect">
            <a:avLst/>
          </a:prstGeom>
          <a:noFill/>
          <a:ln w="0">
            <a:noFill/>
          </a:ln>
        </p:spPr>
        <p:txBody>
          <a:bodyPr anchor="t">
            <a:normAutofit/>
          </a:bodyPr>
          <a:p>
            <a:pPr marL="343080" indent="-343080">
              <a:spcBef>
                <a:spcPts val="601"/>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μοιόσταση είναι η ιδιότητα ενός ανοιχτού συστήματος να ρυθμίζει το εσωτερικό του περιβάλλον ώστε αυτό να διατηρείται σε μια σταθερή κατάσταση, μέσω πολλαπλών προσαρμογών δυναμικής ισορροπίας, που ελέγχονται από ενδοσυνδεόμενους μηχανισμούς ρύθμισης. </a:t>
            </a:r>
            <a:endParaRPr b="0" lang="en-US" sz="2400" spc="-1" strike="noStrike">
              <a:solidFill>
                <a:srgbClr val="ffffff"/>
              </a:solidFill>
              <a:latin typeface="Arial"/>
            </a:endParaRPr>
          </a:p>
          <a:p>
            <a:pPr marL="343080" indent="-343080">
              <a:spcBef>
                <a:spcPts val="601"/>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Όλοι οι ζωντανοί οργανισμοί (μονοκύτταροι και πολυκύτταροι), παρουσιάζουν ομοιοστασία. </a:t>
            </a:r>
            <a:endParaRPr b="0" lang="en-US" sz="2400" spc="-1" strike="noStrike">
              <a:solidFill>
                <a:srgbClr val="ffffff"/>
              </a:solidFill>
              <a:latin typeface="Arial"/>
            </a:endParaRPr>
          </a:p>
          <a:p>
            <a:pPr marL="343080" indent="-343080">
              <a:spcBef>
                <a:spcPts val="601"/>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Η ομοιοστασία εκδηλώνεται σε κυτταρικό επίπεδο, μέσω της συντήρησης σταθερής εσωτερικής οξύτητας (pH). Σε επίπεδο οργανισμού, τα θερμόαιμα ζώα διατηρούν μια σταθερή εσωτερική θερμοκρασίας σώματος. Οι ιστοί και τα όργανα μπορούν επίσης να διατηρήσουν ομοιοστασί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Arial"/>
              </a:rPr>
              <a:t>Ορισμός ασθένειας</a:t>
            </a:r>
            <a:endParaRPr b="0" lang="en-US" sz="4400" spc="-1" strike="noStrike">
              <a:solidFill>
                <a:srgbClr val="ffffcc"/>
              </a:solidFill>
              <a:latin typeface="Arial"/>
            </a:endParaRPr>
          </a:p>
        </p:txBody>
      </p:sp>
      <p:sp>
        <p:nvSpPr>
          <p:cNvPr id="217" name=""/>
          <p:cNvSpPr txBox="1"/>
          <p:nvPr/>
        </p:nvSpPr>
        <p:spPr>
          <a:xfrm>
            <a:off x="457200" y="1600200"/>
            <a:ext cx="8686800" cy="4525920"/>
          </a:xfrm>
          <a:prstGeom prst="rect">
            <a:avLst/>
          </a:prstGeom>
          <a:noFill/>
          <a:ln w="0">
            <a:noFill/>
          </a:ln>
        </p:spPr>
        <p:txBody>
          <a:bodyPr anchor="t">
            <a:normAutofit fontScale="97000"/>
          </a:bodyPr>
          <a:p>
            <a:pPr marL="332640" indent="-332640">
              <a:spcBef>
                <a:spcPts val="799"/>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σθένεια είναι η ορατή αντίδραση ενός ζωντανού οργανισμού στην διαταραχή της ομοιοστασίας του. </a:t>
            </a:r>
            <a:endParaRPr b="0" lang="en-US" sz="3200" spc="-1" strike="noStrike">
              <a:solidFill>
                <a:srgbClr val="ffffff"/>
              </a:solidFill>
              <a:latin typeface="Arial"/>
            </a:endParaRPr>
          </a:p>
          <a:p>
            <a:pPr marL="332640" indent="-332640">
              <a:spcBef>
                <a:spcPts val="799"/>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ο να εξαλείψει κανείς την ασθένεια σημαίνει την εξάλειψη της ικανότητας να επανακτήσει ισορροπία, με αποτέλεσμα ένα διαταραγμένο ανοσοποιητικό σύστημα, αλλεργίες, αυτοάνοσες ασθένειες, και τελικώς μια πλήρη κατάρρευση του αμυντικού μηχανισμο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215640" y="1484280"/>
            <a:ext cx="8883720" cy="5329440"/>
          </a:xfrm>
          <a:prstGeom prst="rect">
            <a:avLst/>
          </a:prstGeom>
          <a:noFill/>
          <a:ln w="0">
            <a:noFill/>
          </a:ln>
        </p:spPr>
        <p:txBody>
          <a:bodyPr anchor="t">
            <a:normAutofit/>
          </a:bodyPr>
          <a:p>
            <a:pPr marL="343080" indent="-343080">
              <a:lnSpc>
                <a:spcPct val="90000"/>
              </a:lnSpc>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Ορίζεται ως η διαρκής αλλαγή στις γνωστικές και συμπεριφορικές προσπάθειες που καταβάλλονται για τη διαχείριση συγκεκριμένων δεξιοτήτων ή/και εσωτερικών απαιτήσεων, για τις οποίες εκτιμάται ότι απαιτούν ή υπερβαίνουν όλες τις δυνατότητες που διαθέτει το άτομο για να αντιμετωπίσει το στρες. </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90000"/>
              </a:lnSpc>
              <a:spcBef>
                <a:spcPts val="675"/>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Πρόκειται για την προσπάθεια ενός ατόμου να ελέγξει (δηλ. να κυριαρχήσει, να ανεχτεί, να μειώσει) τις περιβαλλοντικές και τις εσωτερικές απαιτήσεις αλλά και τις συγκρούσεις μεταξύ τους που επιβαρύνουν ή υπερβαίνουν τις δυνατότητες ενός ατόμου.</a:t>
            </a:r>
            <a:endParaRPr b="0" lang="en-US" sz="2700" spc="-1" strike="noStrike">
              <a:solidFill>
                <a:srgbClr val="ffffff"/>
              </a:solidFill>
              <a:latin typeface="Arial"/>
            </a:endParaRPr>
          </a:p>
        </p:txBody>
      </p:sp>
      <p:sp>
        <p:nvSpPr>
          <p:cNvPr id="219" name="Rectangle 5"/>
          <p:cNvSpPr/>
          <p:nvPr/>
        </p:nvSpPr>
        <p:spPr>
          <a:xfrm>
            <a:off x="1425600" y="189000"/>
            <a:ext cx="5656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Αντιμετώπιση (cop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στρεσογόνων καταστάσεω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79280" y="299880"/>
            <a:ext cx="8893440" cy="5577120"/>
          </a:xfrm>
          <a:prstGeom prst="rect">
            <a:avLst/>
          </a:prstGeom>
          <a:noFill/>
          <a:ln w="0">
            <a:noFill/>
          </a:ln>
        </p:spPr>
        <p:txBody>
          <a:bodyPr anchor="t">
            <a:normAutofit fontScale="91000"/>
          </a:bodyPr>
          <a:p>
            <a:pPr marL="312120" indent="-312120">
              <a:spcBef>
                <a:spcPts val="901"/>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Το φαινόμενο της </a:t>
            </a:r>
            <a:r>
              <a:rPr b="1" lang="el-GR" sz="3600" spc="-1" strike="noStrike">
                <a:solidFill>
                  <a:srgbClr val="ffff00"/>
                </a:solidFill>
                <a:latin typeface="Arial"/>
              </a:rPr>
              <a:t>αντιμετώπισης</a:t>
            </a:r>
            <a:r>
              <a:rPr b="0" lang="el-GR" sz="3600" spc="-1" strike="noStrike">
                <a:solidFill>
                  <a:srgbClr val="ffff00"/>
                </a:solidFill>
                <a:latin typeface="Arial"/>
              </a:rPr>
              <a:t> προσδιορίζεται από 3 στοιχεία</a:t>
            </a:r>
            <a:endParaRPr b="0" lang="en-US" sz="3600" spc="-1" strike="noStrike">
              <a:solidFill>
                <a:srgbClr val="ffffff"/>
              </a:solidFill>
              <a:latin typeface="Arial"/>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2120" indent="-312120">
              <a:spcBef>
                <a:spcPts val="649"/>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μία παράμετρος αφορά τις σκέψεις και τις ενέργειες του ατόμου σε μια συγκεκριμένη στρεσογόνο κατάσταση και πώς αυτές αλλάζουν όσο εξελίσσεται η σύγκρουση. </a:t>
            </a:r>
            <a:endParaRPr b="0" lang="en-US" sz="2600" spc="-1" strike="noStrike">
              <a:solidFill>
                <a:srgbClr val="ffffff"/>
              </a:solidFill>
              <a:latin typeface="Arial"/>
            </a:endParaRPr>
          </a:p>
          <a:p>
            <a:pPr marL="312120" indent="-312120">
              <a:spcBef>
                <a:spcPts val="649"/>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αντιμετώπιση εμπεριέχει τη "συνάφεια", δηλαδή, επηρεάζεται από τις εκτιμήσεις των απαιτήσεων της σύγκρουσης και από τις δυνατότητες που έχει το άτομο για να τις ελέγξει. </a:t>
            </a:r>
            <a:endParaRPr b="0" lang="en-US" sz="2600" spc="-1" strike="noStrike">
              <a:solidFill>
                <a:srgbClr val="ffffff"/>
              </a:solidFill>
              <a:latin typeface="Arial"/>
            </a:endParaRPr>
          </a:p>
          <a:p>
            <a:pPr marL="312120" indent="-312120">
              <a:spcBef>
                <a:spcPts val="649"/>
              </a:spcBef>
              <a:buClr>
                <a:srgbClr val="1ace9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Η αντιμετώπιση αναφέρεται απλά στις προσπάθειες των ατόμων να ελέγξουν τις απαιτήσεις, ανεξάρτητα αν αυτές είναι επιτυχημένες.</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Στρατηγικές ή δεξιότητες αντιμετώπισης (coping </a:t>
            </a:r>
            <a:r>
              <a:rPr b="0" lang="en-US" sz="3200" spc="-1" strike="noStrike">
                <a:solidFill>
                  <a:srgbClr val="ffff00"/>
                </a:solidFill>
                <a:latin typeface="Arial"/>
              </a:rPr>
              <a:t>skills</a:t>
            </a:r>
            <a:r>
              <a:rPr b="0" lang="el-GR" sz="3200" spc="-1" strike="noStrike">
                <a:solidFill>
                  <a:srgbClr val="ffff00"/>
                </a:solidFill>
                <a:latin typeface="Arial"/>
              </a:rPr>
              <a:t>)</a:t>
            </a:r>
            <a:endParaRPr b="0" lang="en-US" sz="3200" spc="-1" strike="noStrike">
              <a:solidFill>
                <a:srgbClr val="ffffcc"/>
              </a:solidFill>
              <a:latin typeface="Arial"/>
            </a:endParaRPr>
          </a:p>
        </p:txBody>
      </p:sp>
      <p:sp>
        <p:nvSpPr>
          <p:cNvPr id="222" name="Rectangle 3"/>
          <p:cNvSpPr/>
          <p:nvPr/>
        </p:nvSpPr>
        <p:spPr>
          <a:xfrm>
            <a:off x="395280" y="1582560"/>
            <a:ext cx="874872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Αναφέρονται στις γνωστικές και συμπεριφορικές προσπάθειες που γίνονται για να υπερνικηθούν, να μειωθούν ή να γίνουν ανεκτές εσωτερικές ή/και εξωτερικές απαιτήσεις που προκλήθηκαν από μια στρεσογόνο κατάσταση. </a:t>
            </a:r>
            <a:endParaRPr b="0" lang="en-US" sz="27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Η αντιμετώπιση μιας στρεσογόνου κατάστασης δε σχετίζεται άμεσα με το αποτέλεσμά της, δηλαδή, η αντιμετώπιση ορίζεται από τις προσπάθειες που γίνονται για να ελεγχθούν οι απαιτήσεις, ανεξάρτητα από την επιτυχία τους.</a:t>
            </a:r>
            <a:endParaRPr b="0" lang="en-US" sz="27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Arial"/>
              </a:rPr>
              <a:t>Οι στρατηγικές ποικίλουν από άτομο σε άτομο. </a:t>
            </a:r>
            <a:endParaRPr b="0" lang="en-US" sz="27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24000" y="907560"/>
            <a:ext cx="8640720" cy="5689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Folkman </a:t>
            </a:r>
            <a:r>
              <a:rPr b="0" lang="en-US" sz="2800" spc="-1" strike="noStrike">
                <a:solidFill>
                  <a:srgbClr val="ffffff"/>
                </a:solidFill>
                <a:latin typeface="Arial"/>
              </a:rPr>
              <a:t>(</a:t>
            </a:r>
            <a:r>
              <a:rPr b="0" lang="el-GR" sz="2800" spc="-1" strike="noStrike">
                <a:solidFill>
                  <a:srgbClr val="ffffff"/>
                </a:solidFill>
                <a:latin typeface="Arial"/>
              </a:rPr>
              <a:t>1984): </a:t>
            </a:r>
            <a:r>
              <a:rPr b="1" i="1" lang="el-GR" sz="2800" spc="-1" strike="noStrike">
                <a:solidFill>
                  <a:srgbClr val="ffffff"/>
                </a:solidFill>
                <a:latin typeface="Arial"/>
              </a:rPr>
              <a:t>αντιμετώπιση εστιασμένη στο πρόβλημα</a:t>
            </a:r>
            <a:r>
              <a:rPr b="0" i="1" lang="el-GR" sz="2800" spc="-1" strike="noStrike">
                <a:solidFill>
                  <a:srgbClr val="ffffff"/>
                </a:solidFill>
                <a:latin typeface="Arial"/>
              </a:rPr>
              <a:t> </a:t>
            </a:r>
            <a:r>
              <a:rPr b="0" lang="el-GR" sz="2800" spc="-1" strike="noStrike">
                <a:solidFill>
                  <a:srgbClr val="ffffff"/>
                </a:solidFill>
                <a:latin typeface="Arial"/>
              </a:rPr>
              <a:t>και </a:t>
            </a:r>
            <a:r>
              <a:rPr b="1" i="1" lang="el-GR" sz="2800" spc="-1" strike="noStrike">
                <a:solidFill>
                  <a:srgbClr val="ffffff"/>
                </a:solidFill>
                <a:latin typeface="Arial"/>
              </a:rPr>
              <a:t>αντιμετώπιση εστιασμένη στα συναισθήματα</a:t>
            </a:r>
            <a:r>
              <a:rPr b="1" lang="el-GR"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49"/>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00"/>
                </a:solidFill>
                <a:latin typeface="Arial"/>
              </a:rPr>
              <a:t>Αντιμετώπιση που είναι εστιασμένη στο πρόβλημα</a:t>
            </a:r>
            <a:r>
              <a:rPr b="0" lang="el-GR" sz="2600" spc="-1" strike="noStrike">
                <a:solidFill>
                  <a:srgbClr val="ffffff"/>
                </a:solidFill>
                <a:latin typeface="Arial"/>
              </a:rPr>
              <a:t> (problem-focused coping): προσπάθεια για αλλαγή της σχέσης του αθλητή με το περιβάλλον.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l-GR" sz="2600" spc="-1" strike="noStrike">
                <a:solidFill>
                  <a:srgbClr val="ffffff"/>
                </a:solidFill>
                <a:latin typeface="Arial"/>
              </a:rPr>
              <a:t>Δηλαδή η στρεσογόνος κατάσταση μπορεί να επιλυθεί ως άμεσο αποτέλεσμα της απειλούμενης συμπεριφοράς του αθλητή. Π.χ. ένας αθλητής του </a:t>
            </a:r>
            <a:r>
              <a:rPr b="0" lang="en-US" sz="2600" spc="-1" strike="noStrike">
                <a:solidFill>
                  <a:srgbClr val="ffffff"/>
                </a:solidFill>
                <a:latin typeface="Arial"/>
              </a:rPr>
              <a:t>TaeKwonDo </a:t>
            </a:r>
            <a:r>
              <a:rPr b="0" lang="el-GR" sz="2600" spc="-1" strike="noStrike">
                <a:solidFill>
                  <a:srgbClr val="ffffff"/>
                </a:solidFill>
                <a:latin typeface="Arial"/>
              </a:rPr>
              <a:t>μπορεί να αναλύσει και να αξιολογήσει την απόδοσή του έτσι ώστε να δημιουργήσει μια διαφορετική στρατηγική προκειμένου να ανταπεξέλθει σε μια κίνηση του αντιπάλου του. </a:t>
            </a:r>
            <a:endParaRPr b="0" lang="en-US" sz="2600" spc="-1" strike="noStrike">
              <a:solidFill>
                <a:srgbClr val="ffffff"/>
              </a:solidFill>
              <a:latin typeface="Arial"/>
            </a:endParaRPr>
          </a:p>
        </p:txBody>
      </p:sp>
      <p:sp>
        <p:nvSpPr>
          <p:cNvPr id="224" name="PlaceHolder 2"/>
          <p:cNvSpPr>
            <a:spLocks noGrp="1"/>
          </p:cNvSpPr>
          <p:nvPr>
            <p:ph type="title"/>
          </p:nvPr>
        </p:nvSpPr>
        <p:spPr>
          <a:xfrm>
            <a:off x="0" y="-27360"/>
            <a:ext cx="91440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ffffcc"/>
                </a:solidFill>
                <a:latin typeface="Arial"/>
              </a:rPr>
              <a:t>Κατηγορίες στρατηγικών αντιμετώπισης</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7640" y="907920"/>
            <a:ext cx="8937720" cy="5616720"/>
          </a:xfrm>
          <a:prstGeom prst="rect">
            <a:avLst/>
          </a:prstGeom>
          <a:noFill/>
          <a:ln w="0">
            <a:noFill/>
          </a:ln>
        </p:spPr>
        <p:txBody>
          <a:bodyPr anchor="t">
            <a:normAutofit/>
          </a:bodyPr>
          <a:p>
            <a:pPr marL="343080" indent="-343080">
              <a:lnSpc>
                <a:spcPct val="90000"/>
              </a:lnSpc>
              <a:spcBef>
                <a:spcPts val="649"/>
              </a:spcBef>
              <a:buClr>
                <a:srgbClr val="1ace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00"/>
                </a:solidFill>
                <a:latin typeface="Arial"/>
              </a:rPr>
              <a:t>Αντιμετώπιση εστιασμένη στα συναισθήματα</a:t>
            </a:r>
            <a:r>
              <a:rPr b="0" lang="el-GR" sz="2600" spc="-1" strike="noStrike">
                <a:solidFill>
                  <a:srgbClr val="ffffff"/>
                </a:solidFill>
                <a:latin typeface="Arial"/>
              </a:rPr>
              <a:t> (emotion-focused coping): εμπεριέχει τον συναισθηματικό έλεγχο, δηλ. την επανεκτίμηση της στρεσογόνου κατάστασης ή της εμπειρίας.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l-GR" sz="2600" spc="-1" strike="noStrike">
                <a:solidFill>
                  <a:srgbClr val="ffffff"/>
                </a:solidFill>
                <a:latin typeface="Arial"/>
              </a:rPr>
              <a:t>Ο αθλητής του </a:t>
            </a:r>
            <a:r>
              <a:rPr b="0" lang="en-US" sz="2600" spc="-1" strike="noStrike">
                <a:solidFill>
                  <a:srgbClr val="ffffff"/>
                </a:solidFill>
                <a:latin typeface="Arial"/>
              </a:rPr>
              <a:t>TaeKwonDo </a:t>
            </a:r>
            <a:r>
              <a:rPr b="0" lang="el-GR" sz="2600" spc="-1" strike="noStrike">
                <a:solidFill>
                  <a:srgbClr val="ffffff"/>
                </a:solidFill>
                <a:latin typeface="Arial"/>
              </a:rPr>
              <a:t>επανεκτιμά την κατάσταση ή απομακρύνει την προσοχή του από αυτήν.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   </a:t>
            </a:r>
            <a:r>
              <a:rPr b="0" lang="el-GR" sz="2600" spc="-1" strike="noStrike">
                <a:solidFill>
                  <a:srgbClr val="ffffff"/>
                </a:solidFill>
                <a:latin typeface="Arial"/>
              </a:rPr>
              <a:t>Στο σύνολό τους αυτές οι στρατηγικές μπορεί να είναι κατάλληλες ή ακατάλληλες ανάλογα με τον τρόπο που χρησιμοποιούνται, τη χρονική στιγμή και το περιβάλλον μέσα στο οποίο εξελίσσεται το γεγονός.</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8:02:25Z</dcterms:created>
  <dc:creator>Filio Daroglou</dc:creator>
  <dc:description/>
  <dc:language>en-US</dc:language>
  <cp:lastModifiedBy>StellaYannis</cp:lastModifiedBy>
  <dcterms:modified xsi:type="dcterms:W3CDTF">2017-07-28T16:05:02Z</dcterms:modified>
  <cp:revision>25</cp:revision>
  <dc:subject/>
  <dc:title>Coping skills</dc:title>
</cp:coreProperties>
</file>