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E1B1-8B35-408D-96E7-4977D70E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6224-6391-4BB4-A4C1-B7A8DAEC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E012-258A-4042-B6E8-9F32762F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6AA6-B4B0-4930-9227-284F769F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AF23-5961-42B8-AEFF-58D403C7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A0F6-6097-4FF1-81E3-93BA152D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8EA7-93FE-4069-99FD-F9C42871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09DF-F2BD-47F7-8B8F-790DF1CD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DC74-21F1-4B90-B0B9-26F00DF4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B5A7-D8F7-4874-8F4C-E1CD3491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B72D-CF92-4AD0-B987-CFC8DC6F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308D-C0A6-46CA-A8F9-027E3202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15CE-C72F-42F2-AFF4-0F4C1FE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4093-30C7-4EDD-BAA5-6071268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EF1B-3E84-4FDA-AEF9-33EDF510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F10B-6C79-498A-ACCC-C86D87CD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F054-FCE5-47A0-B270-0C4C4C96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7226-A0C3-4C2B-9BBA-71C2F070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9C81-C862-4085-9FE3-E1BAF94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A139-1920-49D9-9AA4-0967796E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15EA-6F43-4310-BCEB-967F997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8575-307E-45C5-A1CB-B8D8764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849E-ED32-422C-B314-5F5D4D2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0B0D-789A-438F-8A6E-A60098B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0" y="0"/>
            <a:ext cx="9144000" cy="1028880"/>
          </a:xfrm>
          <a:prstGeom prst="rect">
            <a:avLst/>
          </a:prstGeom>
          <a:solidFill>
            <a:srgbClr val="cde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a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2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7777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e2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e2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e2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40D8-BAAC-4EB9-806D-C2B3484EDF21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rc 35"/>
          <p:cNvSpPr/>
          <p:nvPr/>
        </p:nvSpPr>
        <p:spPr>
          <a:xfrm>
            <a:off x="0" y="660240"/>
            <a:ext cx="449280" cy="366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grpSp>
        <p:nvGrpSpPr>
          <p:cNvPr id="5" name="Group 37"/>
          <p:cNvGrpSpPr/>
          <p:nvPr/>
        </p:nvGrpSpPr>
        <p:grpSpPr>
          <a:xfrm>
            <a:off x="0" y="50760"/>
            <a:ext cx="9131400" cy="914400"/>
            <a:chOff x="0" y="50760"/>
            <a:chExt cx="9131400" cy="914400"/>
          </a:xfrm>
        </p:grpSpPr>
        <p:sp>
          <p:nvSpPr>
            <p:cNvPr id="6" name="Line 38"/>
            <p:cNvSpPr/>
            <p:nvPr/>
          </p:nvSpPr>
          <p:spPr>
            <a:xfrm>
              <a:off x="0" y="5076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7" name="Line 39"/>
            <p:cNvSpPr/>
            <p:nvPr/>
          </p:nvSpPr>
          <p:spPr>
            <a:xfrm>
              <a:off x="0" y="12708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" name="Line 40"/>
            <p:cNvSpPr/>
            <p:nvPr/>
          </p:nvSpPr>
          <p:spPr>
            <a:xfrm>
              <a:off x="0" y="20304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" name="Line 41"/>
            <p:cNvSpPr/>
            <p:nvPr/>
          </p:nvSpPr>
          <p:spPr>
            <a:xfrm>
              <a:off x="0" y="27936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" name="Line 42"/>
            <p:cNvSpPr/>
            <p:nvPr/>
          </p:nvSpPr>
          <p:spPr>
            <a:xfrm>
              <a:off x="0" y="35568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" name="Line 43"/>
            <p:cNvSpPr/>
            <p:nvPr/>
          </p:nvSpPr>
          <p:spPr>
            <a:xfrm>
              <a:off x="0" y="43164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2" name="Line 44"/>
            <p:cNvSpPr/>
            <p:nvPr/>
          </p:nvSpPr>
          <p:spPr>
            <a:xfrm>
              <a:off x="0" y="50796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" name="Line 45"/>
            <p:cNvSpPr/>
            <p:nvPr/>
          </p:nvSpPr>
          <p:spPr>
            <a:xfrm>
              <a:off x="0" y="58428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" name="Line 46"/>
            <p:cNvSpPr/>
            <p:nvPr/>
          </p:nvSpPr>
          <p:spPr>
            <a:xfrm>
              <a:off x="0" y="66024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" name="Line 47"/>
            <p:cNvSpPr/>
            <p:nvPr/>
          </p:nvSpPr>
          <p:spPr>
            <a:xfrm>
              <a:off x="0" y="73656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6" name="Line 48"/>
            <p:cNvSpPr/>
            <p:nvPr/>
          </p:nvSpPr>
          <p:spPr>
            <a:xfrm>
              <a:off x="0" y="81288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7" name="Line 49"/>
            <p:cNvSpPr/>
            <p:nvPr/>
          </p:nvSpPr>
          <p:spPr>
            <a:xfrm>
              <a:off x="0" y="88884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8" name="Line 50"/>
            <p:cNvSpPr/>
            <p:nvPr/>
          </p:nvSpPr>
          <p:spPr>
            <a:xfrm>
              <a:off x="0" y="965160"/>
              <a:ext cx="913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</p:grpSp>
      <p:sp>
        <p:nvSpPr>
          <p:cNvPr id="19" name="Arc 51"/>
          <p:cNvSpPr/>
          <p:nvPr/>
        </p:nvSpPr>
        <p:spPr>
          <a:xfrm flipH="1" flipV="1">
            <a:off x="7918560" y="0"/>
            <a:ext cx="1225440" cy="10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0" name="Line 53"/>
          <p:cNvSpPr/>
          <p:nvPr/>
        </p:nvSpPr>
        <p:spPr>
          <a:xfrm>
            <a:off x="7931160" y="50760"/>
            <a:ext cx="121284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1" name="Line 54"/>
          <p:cNvSpPr/>
          <p:nvPr/>
        </p:nvSpPr>
        <p:spPr>
          <a:xfrm>
            <a:off x="7934400" y="127080"/>
            <a:ext cx="120960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2" name="Line 55"/>
          <p:cNvSpPr/>
          <p:nvPr/>
        </p:nvSpPr>
        <p:spPr>
          <a:xfrm>
            <a:off x="7953480" y="203040"/>
            <a:ext cx="119052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3" name="Line 56"/>
          <p:cNvSpPr/>
          <p:nvPr/>
        </p:nvSpPr>
        <p:spPr>
          <a:xfrm>
            <a:off x="7972560" y="276120"/>
            <a:ext cx="117144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4" name="Line 57"/>
          <p:cNvSpPr/>
          <p:nvPr/>
        </p:nvSpPr>
        <p:spPr>
          <a:xfrm>
            <a:off x="7997760" y="352440"/>
            <a:ext cx="113688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5" name="Line 58"/>
          <p:cNvSpPr/>
          <p:nvPr/>
        </p:nvSpPr>
        <p:spPr>
          <a:xfrm>
            <a:off x="8032680" y="428760"/>
            <a:ext cx="110808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6" name="Line 59"/>
          <p:cNvSpPr/>
          <p:nvPr/>
        </p:nvSpPr>
        <p:spPr>
          <a:xfrm>
            <a:off x="8080200" y="504720"/>
            <a:ext cx="106380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7" name="Line 60"/>
          <p:cNvSpPr/>
          <p:nvPr/>
        </p:nvSpPr>
        <p:spPr>
          <a:xfrm>
            <a:off x="8134200" y="584280"/>
            <a:ext cx="100980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8" name="Line 61"/>
          <p:cNvSpPr/>
          <p:nvPr/>
        </p:nvSpPr>
        <p:spPr>
          <a:xfrm>
            <a:off x="8197920" y="660240"/>
            <a:ext cx="94608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9" name="Line 62"/>
          <p:cNvSpPr/>
          <p:nvPr/>
        </p:nvSpPr>
        <p:spPr>
          <a:xfrm>
            <a:off x="8277120" y="736560"/>
            <a:ext cx="86688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0" name="Line 63"/>
          <p:cNvSpPr/>
          <p:nvPr/>
        </p:nvSpPr>
        <p:spPr>
          <a:xfrm>
            <a:off x="8372520" y="812880"/>
            <a:ext cx="77148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1" name="Line 64"/>
          <p:cNvSpPr/>
          <p:nvPr/>
        </p:nvSpPr>
        <p:spPr>
          <a:xfrm>
            <a:off x="8499600" y="888840"/>
            <a:ext cx="64440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2" name="Line 65"/>
          <p:cNvSpPr/>
          <p:nvPr/>
        </p:nvSpPr>
        <p:spPr>
          <a:xfrm>
            <a:off x="8677440" y="965160"/>
            <a:ext cx="466560" cy="0"/>
          </a:xfrm>
          <a:prstGeom prst="line">
            <a:avLst/>
          </a:prstGeom>
          <a:ln w="9360">
            <a:solidFill>
              <a:srgbClr val="cde1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3" name="Rectangle 6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4" name="Arc 66"/>
          <p:cNvSpPr/>
          <p:nvPr/>
        </p:nvSpPr>
        <p:spPr>
          <a:xfrm flipH="1" flipV="1">
            <a:off x="8773560" y="0"/>
            <a:ext cx="369720" cy="317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de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8305920" y="6324120"/>
            <a:ext cx="838080" cy="3272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777777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dt" idx="3"/>
          </p:nvPr>
        </p:nvSpPr>
        <p:spPr>
          <a:xfrm>
            <a:off x="7848720" y="6629040"/>
            <a:ext cx="1295280" cy="204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1"/>
          <p:cNvSpPr/>
          <p:nvPr/>
        </p:nvSpPr>
        <p:spPr>
          <a:xfrm>
            <a:off x="0" y="2146320"/>
            <a:ext cx="9144000" cy="3276720"/>
          </a:xfrm>
          <a:prstGeom prst="rect">
            <a:avLst/>
          </a:prstGeom>
          <a:solidFill>
            <a:srgbClr val="cde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76320" y="76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75" name="Arc 32"/>
          <p:cNvSpPr/>
          <p:nvPr/>
        </p:nvSpPr>
        <p:spPr>
          <a:xfrm>
            <a:off x="0" y="4351320"/>
            <a:ext cx="1295280" cy="10587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grpSp>
        <p:nvGrpSpPr>
          <p:cNvPr id="76" name="Group 33"/>
          <p:cNvGrpSpPr/>
          <p:nvPr/>
        </p:nvGrpSpPr>
        <p:grpSpPr>
          <a:xfrm>
            <a:off x="0" y="2209680"/>
            <a:ext cx="9144000" cy="3124080"/>
            <a:chOff x="0" y="2209680"/>
            <a:chExt cx="9144000" cy="3124080"/>
          </a:xfrm>
        </p:grpSpPr>
        <p:sp>
          <p:nvSpPr>
            <p:cNvPr id="77" name="Line 34"/>
            <p:cNvSpPr/>
            <p:nvPr/>
          </p:nvSpPr>
          <p:spPr>
            <a:xfrm>
              <a:off x="0" y="22096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78" name="Line 35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79" name="Line 36"/>
            <p:cNvSpPr/>
            <p:nvPr/>
          </p:nvSpPr>
          <p:spPr>
            <a:xfrm>
              <a:off x="0" y="23619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0" name="Line 37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0" y="25146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2" name="Line 39"/>
            <p:cNvSpPr/>
            <p:nvPr/>
          </p:nvSpPr>
          <p:spPr>
            <a:xfrm>
              <a:off x="0" y="25905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3" name="Line 40"/>
            <p:cNvSpPr/>
            <p:nvPr/>
          </p:nvSpPr>
          <p:spPr>
            <a:xfrm>
              <a:off x="0" y="26668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4" name="Line 41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5" name="Line 42"/>
            <p:cNvSpPr/>
            <p:nvPr/>
          </p:nvSpPr>
          <p:spPr>
            <a:xfrm>
              <a:off x="0" y="28191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6" name="Line 43"/>
            <p:cNvSpPr/>
            <p:nvPr/>
          </p:nvSpPr>
          <p:spPr>
            <a:xfrm>
              <a:off x="0" y="28954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7" name="Line 44"/>
            <p:cNvSpPr/>
            <p:nvPr/>
          </p:nvSpPr>
          <p:spPr>
            <a:xfrm>
              <a:off x="0" y="29718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8" name="Line 45"/>
            <p:cNvSpPr/>
            <p:nvPr/>
          </p:nvSpPr>
          <p:spPr>
            <a:xfrm>
              <a:off x="0" y="30477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89" name="Line 46"/>
            <p:cNvSpPr/>
            <p:nvPr/>
          </p:nvSpPr>
          <p:spPr>
            <a:xfrm>
              <a:off x="0" y="31240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0" name="Line 47"/>
            <p:cNvSpPr/>
            <p:nvPr/>
          </p:nvSpPr>
          <p:spPr>
            <a:xfrm>
              <a:off x="0" y="3200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1" name="Line 48"/>
            <p:cNvSpPr/>
            <p:nvPr/>
          </p:nvSpPr>
          <p:spPr>
            <a:xfrm>
              <a:off x="0" y="32763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2" name="Line 49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3" name="Line 50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4" name="Line 51"/>
            <p:cNvSpPr/>
            <p:nvPr/>
          </p:nvSpPr>
          <p:spPr>
            <a:xfrm>
              <a:off x="0" y="35049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5" name="Line 52"/>
            <p:cNvSpPr/>
            <p:nvPr/>
          </p:nvSpPr>
          <p:spPr>
            <a:xfrm>
              <a:off x="0" y="35812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6" name="Line 53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7" name="Line 54"/>
            <p:cNvSpPr/>
            <p:nvPr/>
          </p:nvSpPr>
          <p:spPr>
            <a:xfrm>
              <a:off x="0" y="37335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8" name="Line 55"/>
            <p:cNvSpPr/>
            <p:nvPr/>
          </p:nvSpPr>
          <p:spPr>
            <a:xfrm>
              <a:off x="0" y="38098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99" name="Line 56"/>
            <p:cNvSpPr/>
            <p:nvPr/>
          </p:nvSpPr>
          <p:spPr>
            <a:xfrm>
              <a:off x="0" y="38862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0" name="Line 57"/>
            <p:cNvSpPr/>
            <p:nvPr/>
          </p:nvSpPr>
          <p:spPr>
            <a:xfrm>
              <a:off x="0" y="39621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1" name="Line 58"/>
            <p:cNvSpPr/>
            <p:nvPr/>
          </p:nvSpPr>
          <p:spPr>
            <a:xfrm>
              <a:off x="0" y="40384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2" name="Line 59"/>
            <p:cNvSpPr/>
            <p:nvPr/>
          </p:nvSpPr>
          <p:spPr>
            <a:xfrm>
              <a:off x="0" y="41148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3" name="Line 60"/>
            <p:cNvSpPr/>
            <p:nvPr/>
          </p:nvSpPr>
          <p:spPr>
            <a:xfrm>
              <a:off x="0" y="41907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4" name="Line 61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5" name="Line 62"/>
            <p:cNvSpPr/>
            <p:nvPr/>
          </p:nvSpPr>
          <p:spPr>
            <a:xfrm>
              <a:off x="0" y="4343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6" name="Line 63"/>
            <p:cNvSpPr/>
            <p:nvPr/>
          </p:nvSpPr>
          <p:spPr>
            <a:xfrm>
              <a:off x="0" y="44193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7" name="Line 64"/>
            <p:cNvSpPr/>
            <p:nvPr/>
          </p:nvSpPr>
          <p:spPr>
            <a:xfrm>
              <a:off x="0" y="44956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8" name="Line 65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09" name="Line 66"/>
            <p:cNvSpPr/>
            <p:nvPr/>
          </p:nvSpPr>
          <p:spPr>
            <a:xfrm>
              <a:off x="0" y="46479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0" name="Line 67"/>
            <p:cNvSpPr/>
            <p:nvPr/>
          </p:nvSpPr>
          <p:spPr>
            <a:xfrm>
              <a:off x="0" y="47242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1" name="Line 68"/>
            <p:cNvSpPr/>
            <p:nvPr/>
          </p:nvSpPr>
          <p:spPr>
            <a:xfrm>
              <a:off x="0" y="48006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2" name="Line 69"/>
            <p:cNvSpPr/>
            <p:nvPr/>
          </p:nvSpPr>
          <p:spPr>
            <a:xfrm>
              <a:off x="0" y="48765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3" name="Line 70"/>
            <p:cNvSpPr/>
            <p:nvPr/>
          </p:nvSpPr>
          <p:spPr>
            <a:xfrm>
              <a:off x="0" y="49528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4" name="Line 71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5" name="Line 72"/>
            <p:cNvSpPr/>
            <p:nvPr/>
          </p:nvSpPr>
          <p:spPr>
            <a:xfrm>
              <a:off x="0" y="51051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6" name="Line 73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7" name="Line 74"/>
            <p:cNvSpPr/>
            <p:nvPr/>
          </p:nvSpPr>
          <p:spPr>
            <a:xfrm>
              <a:off x="0" y="52578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18" name="Line 75"/>
            <p:cNvSpPr/>
            <p:nvPr/>
          </p:nvSpPr>
          <p:spPr>
            <a:xfrm>
              <a:off x="0" y="533376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</p:grpSp>
      <p:sp>
        <p:nvSpPr>
          <p:cNvPr id="119" name="Arc 76"/>
          <p:cNvSpPr/>
          <p:nvPr/>
        </p:nvSpPr>
        <p:spPr>
          <a:xfrm flipH="1" flipV="1">
            <a:off x="4863240" y="1473120"/>
            <a:ext cx="4280040" cy="3756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grpSp>
        <p:nvGrpSpPr>
          <p:cNvPr id="120" name="Group 118"/>
          <p:cNvGrpSpPr/>
          <p:nvPr/>
        </p:nvGrpSpPr>
        <p:grpSpPr>
          <a:xfrm>
            <a:off x="4964040" y="2209680"/>
            <a:ext cx="4179960" cy="2968920"/>
            <a:chOff x="4964040" y="2209680"/>
            <a:chExt cx="4179960" cy="2968920"/>
          </a:xfrm>
        </p:grpSpPr>
        <p:sp>
          <p:nvSpPr>
            <p:cNvPr id="121" name="Line 78"/>
            <p:cNvSpPr/>
            <p:nvPr/>
          </p:nvSpPr>
          <p:spPr>
            <a:xfrm>
              <a:off x="4964040" y="2209680"/>
              <a:ext cx="417996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22" name="Line 79"/>
            <p:cNvSpPr/>
            <p:nvPr/>
          </p:nvSpPr>
          <p:spPr>
            <a:xfrm>
              <a:off x="4964040" y="2286000"/>
              <a:ext cx="417996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23" name="Line 80"/>
            <p:cNvSpPr/>
            <p:nvPr/>
          </p:nvSpPr>
          <p:spPr>
            <a:xfrm>
              <a:off x="4992840" y="2362320"/>
              <a:ext cx="415116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24" name="Line 81"/>
            <p:cNvSpPr/>
            <p:nvPr/>
          </p:nvSpPr>
          <p:spPr>
            <a:xfrm>
              <a:off x="5011560" y="2438280"/>
              <a:ext cx="413244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25" name="Line 82"/>
            <p:cNvSpPr/>
            <p:nvPr/>
          </p:nvSpPr>
          <p:spPr>
            <a:xfrm>
              <a:off x="5035680" y="2514600"/>
              <a:ext cx="41083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26" name="Line 83"/>
            <p:cNvSpPr/>
            <p:nvPr/>
          </p:nvSpPr>
          <p:spPr>
            <a:xfrm>
              <a:off x="5064120" y="2590920"/>
              <a:ext cx="407988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27" name="Line 84"/>
            <p:cNvSpPr/>
            <p:nvPr/>
          </p:nvSpPr>
          <p:spPr>
            <a:xfrm>
              <a:off x="5089680" y="2666880"/>
              <a:ext cx="40543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28" name="Line 85"/>
            <p:cNvSpPr/>
            <p:nvPr/>
          </p:nvSpPr>
          <p:spPr>
            <a:xfrm>
              <a:off x="5127480" y="2743200"/>
              <a:ext cx="40165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29" name="Line 86"/>
            <p:cNvSpPr/>
            <p:nvPr/>
          </p:nvSpPr>
          <p:spPr>
            <a:xfrm>
              <a:off x="5151600" y="2819520"/>
              <a:ext cx="399240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0" name="Line 87"/>
            <p:cNvSpPr/>
            <p:nvPr/>
          </p:nvSpPr>
          <p:spPr>
            <a:xfrm>
              <a:off x="5184720" y="2895480"/>
              <a:ext cx="395460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1" name="Line 88"/>
            <p:cNvSpPr/>
            <p:nvPr/>
          </p:nvSpPr>
          <p:spPr>
            <a:xfrm>
              <a:off x="5227560" y="2971800"/>
              <a:ext cx="391176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2" name="Line 89"/>
            <p:cNvSpPr/>
            <p:nvPr/>
          </p:nvSpPr>
          <p:spPr>
            <a:xfrm>
              <a:off x="5270400" y="3048120"/>
              <a:ext cx="38671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3" name="Line 90"/>
            <p:cNvSpPr/>
            <p:nvPr/>
          </p:nvSpPr>
          <p:spPr>
            <a:xfrm>
              <a:off x="5303880" y="3124080"/>
              <a:ext cx="383364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4" name="Line 91"/>
            <p:cNvSpPr/>
            <p:nvPr/>
          </p:nvSpPr>
          <p:spPr>
            <a:xfrm>
              <a:off x="5346720" y="3200400"/>
              <a:ext cx="379080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5" name="Line 92"/>
            <p:cNvSpPr/>
            <p:nvPr/>
          </p:nvSpPr>
          <p:spPr>
            <a:xfrm>
              <a:off x="5380200" y="3276720"/>
              <a:ext cx="37573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6" name="Line 93"/>
            <p:cNvSpPr/>
            <p:nvPr/>
          </p:nvSpPr>
          <p:spPr>
            <a:xfrm>
              <a:off x="5437080" y="3352680"/>
              <a:ext cx="369576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7" name="Line 94"/>
            <p:cNvSpPr/>
            <p:nvPr/>
          </p:nvSpPr>
          <p:spPr>
            <a:xfrm>
              <a:off x="5479920" y="3429000"/>
              <a:ext cx="365760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8" name="Line 95"/>
            <p:cNvSpPr/>
            <p:nvPr/>
          </p:nvSpPr>
          <p:spPr>
            <a:xfrm>
              <a:off x="5546880" y="3505320"/>
              <a:ext cx="359064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39" name="Line 96"/>
            <p:cNvSpPr/>
            <p:nvPr/>
          </p:nvSpPr>
          <p:spPr>
            <a:xfrm>
              <a:off x="5594400" y="3581280"/>
              <a:ext cx="35431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0" name="Line 97"/>
            <p:cNvSpPr/>
            <p:nvPr/>
          </p:nvSpPr>
          <p:spPr>
            <a:xfrm>
              <a:off x="5670720" y="3657600"/>
              <a:ext cx="346680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1" name="Line 98"/>
            <p:cNvSpPr/>
            <p:nvPr/>
          </p:nvSpPr>
          <p:spPr>
            <a:xfrm>
              <a:off x="5732640" y="3733920"/>
              <a:ext cx="340020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2" name="Line 99"/>
            <p:cNvSpPr/>
            <p:nvPr/>
          </p:nvSpPr>
          <p:spPr>
            <a:xfrm>
              <a:off x="5784840" y="3809880"/>
              <a:ext cx="335268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3" name="Line 100"/>
            <p:cNvSpPr/>
            <p:nvPr/>
          </p:nvSpPr>
          <p:spPr>
            <a:xfrm>
              <a:off x="5870520" y="3886200"/>
              <a:ext cx="327204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4" name="Line 101"/>
            <p:cNvSpPr/>
            <p:nvPr/>
          </p:nvSpPr>
          <p:spPr>
            <a:xfrm>
              <a:off x="5946840" y="3962520"/>
              <a:ext cx="31957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5" name="Line 102"/>
            <p:cNvSpPr/>
            <p:nvPr/>
          </p:nvSpPr>
          <p:spPr>
            <a:xfrm>
              <a:off x="6027840" y="4038480"/>
              <a:ext cx="310500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6" name="Line 103"/>
            <p:cNvSpPr/>
            <p:nvPr/>
          </p:nvSpPr>
          <p:spPr>
            <a:xfrm>
              <a:off x="6108840" y="4114800"/>
              <a:ext cx="302868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7" name="Line 104"/>
            <p:cNvSpPr/>
            <p:nvPr/>
          </p:nvSpPr>
          <p:spPr>
            <a:xfrm>
              <a:off x="6199200" y="4191120"/>
              <a:ext cx="29383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8" name="Line 105"/>
            <p:cNvSpPr/>
            <p:nvPr/>
          </p:nvSpPr>
          <p:spPr>
            <a:xfrm>
              <a:off x="6284880" y="4267080"/>
              <a:ext cx="28591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49" name="Line 106"/>
            <p:cNvSpPr/>
            <p:nvPr/>
          </p:nvSpPr>
          <p:spPr>
            <a:xfrm>
              <a:off x="6389640" y="4343400"/>
              <a:ext cx="275436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0" name="Line 107"/>
            <p:cNvSpPr/>
            <p:nvPr/>
          </p:nvSpPr>
          <p:spPr>
            <a:xfrm>
              <a:off x="6489720" y="4424400"/>
              <a:ext cx="265428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1" name="Line 108"/>
            <p:cNvSpPr/>
            <p:nvPr/>
          </p:nvSpPr>
          <p:spPr>
            <a:xfrm>
              <a:off x="6589800" y="4495680"/>
              <a:ext cx="255420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2" name="Line 109"/>
            <p:cNvSpPr/>
            <p:nvPr/>
          </p:nvSpPr>
          <p:spPr>
            <a:xfrm>
              <a:off x="6721560" y="4572000"/>
              <a:ext cx="242244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3" name="Line 110"/>
            <p:cNvSpPr/>
            <p:nvPr/>
          </p:nvSpPr>
          <p:spPr>
            <a:xfrm>
              <a:off x="6856560" y="4645080"/>
              <a:ext cx="228744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4" name="Line 111"/>
            <p:cNvSpPr/>
            <p:nvPr/>
          </p:nvSpPr>
          <p:spPr>
            <a:xfrm>
              <a:off x="7004160" y="4719600"/>
              <a:ext cx="213984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5" name="Line 112"/>
            <p:cNvSpPr/>
            <p:nvPr/>
          </p:nvSpPr>
          <p:spPr>
            <a:xfrm>
              <a:off x="7161120" y="4797360"/>
              <a:ext cx="198288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6" name="Line 113"/>
            <p:cNvSpPr/>
            <p:nvPr/>
          </p:nvSpPr>
          <p:spPr>
            <a:xfrm>
              <a:off x="7334280" y="4871880"/>
              <a:ext cx="180972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7" name="Line 114"/>
            <p:cNvSpPr/>
            <p:nvPr/>
          </p:nvSpPr>
          <p:spPr>
            <a:xfrm>
              <a:off x="7532640" y="4950000"/>
              <a:ext cx="161136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8" name="Line 115"/>
            <p:cNvSpPr/>
            <p:nvPr/>
          </p:nvSpPr>
          <p:spPr>
            <a:xfrm>
              <a:off x="7759800" y="5024520"/>
              <a:ext cx="138420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59" name="Line 116"/>
            <p:cNvSpPr/>
            <p:nvPr/>
          </p:nvSpPr>
          <p:spPr>
            <a:xfrm>
              <a:off x="8024760" y="5099040"/>
              <a:ext cx="111924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160" name="Line 117"/>
            <p:cNvSpPr/>
            <p:nvPr/>
          </p:nvSpPr>
          <p:spPr>
            <a:xfrm>
              <a:off x="8488440" y="5178600"/>
              <a:ext cx="655560" cy="0"/>
            </a:xfrm>
            <a:prstGeom prst="line">
              <a:avLst/>
            </a:prstGeom>
            <a:ln w="9360">
              <a:solidFill>
                <a:srgbClr val="cde1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</p:grpSp>
      <p:sp>
        <p:nvSpPr>
          <p:cNvPr id="161" name="Arc 119"/>
          <p:cNvSpPr/>
          <p:nvPr/>
        </p:nvSpPr>
        <p:spPr>
          <a:xfrm flipH="1" flipV="1">
            <a:off x="8323200" y="2146320"/>
            <a:ext cx="820800" cy="72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de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a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2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7777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e2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e2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e2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e1d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e2a9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45D0-B378-4A20-9CA2-D399279313CC}" type="slidenum">
              <a:rPr b="0" lang="ko-KR" sz="1400" spc="-1" strike="noStrike">
                <a:solidFill>
                  <a:srgbClr val="ffe2a9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600" y="1523880"/>
            <a:ext cx="8766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990000"/>
                </a:solidFill>
                <a:latin typeface="Arial"/>
              </a:rPr>
              <a:t>Η ΥΠΟΘΕΣΗ ΤΗΣ ΥΠΑΡΞΗΣ ΚΑΙ ΑΝΙΧΝΕΥΣΗΣ ΤΑΛΕΝΤΩΝ ΣΤΗΝ ΕΠΙΔΕΞΙΑ ΚΙΝΗΤΙΚΗ ΣΥΜΠΕΡΙΦΟΡΑ:</a:t>
            </a:r>
            <a:r>
              <a:rPr b="1" lang="el-GR" sz="3600" spc="-1" strike="noStrike">
                <a:solidFill>
                  <a:srgbClr val="ffe2a9"/>
                </a:solidFill>
                <a:latin typeface="Verdana"/>
              </a:rPr>
              <a:t> </a:t>
            </a:r>
            <a:r>
              <a:rPr b="0" lang="el-GR" sz="3600" spc="-1" strike="noStrike">
                <a:solidFill>
                  <a:srgbClr val="003300"/>
                </a:solidFill>
                <a:latin typeface="Arial"/>
              </a:rPr>
              <a:t>ΜΥΘΟΙ ΚΑΙ ΑΛΗΘΕΙΕΣ</a:t>
            </a:r>
            <a:endParaRPr b="1" lang="en-US" sz="36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3000" y="4057560"/>
            <a:ext cx="4495680" cy="4190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990000"/>
                </a:solidFill>
                <a:latin typeface="Arial"/>
              </a:rPr>
              <a:t>Γιώργος Γρούϊος</a:t>
            </a:r>
            <a:endParaRPr b="1" lang="en-US" sz="26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1155600" y="4527720"/>
            <a:ext cx="6265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ριστοτέλειο Πανεπιστήμιο Θεσσαλονίκης</a:t>
            </a:r>
            <a:endParaRPr b="0" lang="en-US" sz="2400" spc="-1" strike="noStrike">
              <a:solidFill>
                <a:srgbClr val="ffe2a9"/>
              </a:solidFill>
              <a:latin typeface="Times New Roman"/>
            </a:endParaRPr>
          </a:p>
        </p:txBody>
      </p:sp>
      <p:grpSp>
        <p:nvGrpSpPr>
          <p:cNvPr id="206" name="Group 29"/>
          <p:cNvGrpSpPr/>
          <p:nvPr/>
        </p:nvGrpSpPr>
        <p:grpSpPr>
          <a:xfrm>
            <a:off x="685800" y="5124600"/>
            <a:ext cx="1295280" cy="1295280"/>
            <a:chOff x="685800" y="5124600"/>
            <a:chExt cx="1295280" cy="1295280"/>
          </a:xfrm>
        </p:grpSpPr>
        <p:sp>
          <p:nvSpPr>
            <p:cNvPr id="207" name="Oval 10"/>
            <p:cNvSpPr/>
            <p:nvPr/>
          </p:nvSpPr>
          <p:spPr>
            <a:xfrm>
              <a:off x="685800" y="5124600"/>
              <a:ext cx="1295280" cy="1295280"/>
            </a:xfrm>
            <a:prstGeom prst="ellipse">
              <a:avLst/>
            </a:prstGeom>
            <a:solidFill>
              <a:srgbClr val="729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208" name="Oval 11"/>
            <p:cNvSpPr/>
            <p:nvPr/>
          </p:nvSpPr>
          <p:spPr>
            <a:xfrm>
              <a:off x="1042920" y="5542200"/>
              <a:ext cx="716040" cy="716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297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209" name="Oval 24"/>
            <p:cNvSpPr/>
            <p:nvPr/>
          </p:nvSpPr>
          <p:spPr>
            <a:xfrm rot="19033200">
              <a:off x="794880" y="5324400"/>
              <a:ext cx="544680" cy="30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297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</p:grpSp>
      <p:grpSp>
        <p:nvGrpSpPr>
          <p:cNvPr id="210" name="Group 30"/>
          <p:cNvGrpSpPr/>
          <p:nvPr/>
        </p:nvGrpSpPr>
        <p:grpSpPr>
          <a:xfrm>
            <a:off x="1790640" y="6111720"/>
            <a:ext cx="571680" cy="571320"/>
            <a:chOff x="1790640" y="6111720"/>
            <a:chExt cx="571680" cy="571320"/>
          </a:xfrm>
        </p:grpSpPr>
        <p:sp>
          <p:nvSpPr>
            <p:cNvPr id="211" name="Oval 14"/>
            <p:cNvSpPr/>
            <p:nvPr/>
          </p:nvSpPr>
          <p:spPr>
            <a:xfrm>
              <a:off x="1790640" y="6111720"/>
              <a:ext cx="571680" cy="57132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1947960" y="629568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 rot="19033200">
              <a:off x="1846440" y="6198480"/>
              <a:ext cx="24732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</p:grpSp>
      <p:sp>
        <p:nvSpPr>
          <p:cNvPr id="214" name="Rectangle 31"/>
          <p:cNvSpPr/>
          <p:nvPr/>
        </p:nvSpPr>
        <p:spPr>
          <a:xfrm>
            <a:off x="9360" y="0"/>
            <a:ext cx="2714760" cy="52560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58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52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ΘΕΩΡΗΤΙΚΕΣ ΕΡΜΗΝΙΕΣ ΤΟΥ ΤΑΛΕΝΤΟΥ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Αναπτυξιακές θεωρίε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π.χ., χρονολογική, βιολογική, νοητική ηλικία</a:t>
            </a: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Βιολογικές θεωρίε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π.χ., γενετικές επιδράσεις, βιολογικά χαρακτηριστικά</a:t>
            </a: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Περιβαλλοντικές θεωρίε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π.χ., κοινωνική μάθηση, μίμηση προτύπων</a:t>
            </a: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Ψυχοδυναμικές θεωρίε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π.χ., κοινωνικο-συναισθηματική ανάπτυξη, προσωπικότητα</a:t>
            </a: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Θεωρίες αλληλεπίδραση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Συνδυασμοί των παραπάνω θεωριών</a:t>
            </a: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Θέση υποσέλιδου 5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63" name="Θέση ημερομηνίας 6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2467080"/>
            <a:ext cx="826128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0000"/>
                </a:solidFill>
                <a:latin typeface="Verdana"/>
              </a:rPr>
              <a:t>ΥΠΑΡΞΗ ΤΑΛΕΝΤΟΥ: </a:t>
            </a:r>
            <a:br>
              <a:rPr sz="3200"/>
            </a:br>
            <a:r>
              <a:rPr b="0" lang="el-GR" sz="3200" spc="-1" strike="noStrike">
                <a:solidFill>
                  <a:srgbClr val="003300"/>
                </a:solidFill>
                <a:latin typeface="Arial"/>
              </a:rPr>
              <a:t>ΜΥΘΟΣ Ή ΠΡΑΓΜΑΤΙΚΟΤΗΤΑ; </a:t>
            </a:r>
            <a:endParaRPr b="1" lang="en-US" sz="3200" spc="-1" strike="noStrike">
              <a:solidFill>
                <a:srgbClr val="cde1d8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67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ΔΕΔΟΜΕΝΑ ΠΟΥ ΥΠΟΣΤΗΡΙΖΟΥΝ ΤΗΝ ΥΠΑΡΞΗ ΤΑΛΕΝΤΟΥ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Δεδομένα που υποστηρίζουν την εμφάνιση ειδικών δεξιοτήτων σε πολύ μικρή ηλικί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Δεδομένα που συνδέουν την ασυνήθιστα υψηλή επίδοση με αβίαστη εκτέλεση και έλλειψη  ειδικής εμπειρία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Δεδομένα που συνδέουν τις τιμές επίδοσης με συγκεκριμένες βιολογικές παραμέτρου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Δεδομένα που υποστηρίζουν την ύπαρξη ιδιοφυών καθυστερημένων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72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ΔΕΔΟΜΕΝΑ ΠΟΥ ΑΝΤΙΚΡΟΥΟΥΝ ΤΗΝ ΥΠΑΡΞΗ ΤΑΛΕΝΤΟΥ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Δεδομένα που αντικρούουν τις πρώιμες ενδείξεις εξεχουσών ικανοτήτων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Δεδομένα που αντικρούουν την ύπαρξη διαφορών στη μάθηση μεταξύ ατάλαντων και ταλαντούχων ατόμων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Δεδομένα που αντικρούουν την άποψη ότι τα ατάλαντα άτομα δεν μπορούν να επιτύχουν ασυνήθιστα υψηλές επιδόσει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Θέση υποσέλιδου 5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77" name="Θέση ημερομηνίας 6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2371320"/>
            <a:ext cx="826128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0000"/>
                </a:solidFill>
                <a:latin typeface="Verdana"/>
              </a:rPr>
              <a:t>ΜΕΘΟΔΟΛΟΓΙΑ ΑΝΑΓΝΩΡΙΣΗΣ</a:t>
            </a:r>
            <a:endParaRPr b="1" lang="en-US" sz="3200" spc="-1" strike="noStrike">
              <a:solidFill>
                <a:srgbClr val="cde1d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0000"/>
                </a:solidFill>
                <a:latin typeface="Verdana"/>
              </a:rPr>
              <a:t>ΤΟΥ ΤΑΛΕΝΤΟΥ</a:t>
            </a:r>
            <a:endParaRPr b="1" lang="en-US" sz="3200" spc="-1" strike="noStrike">
              <a:solidFill>
                <a:srgbClr val="cde1d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81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ΚΡΙΤΗΡΙΑ ΑΝΑΓΝΩΡΙΣΗΣ ΤΟΥ ΤΑΛΕΝΤΟΥ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ο κριτήριο της υπεροχή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ο κριτήριο της σπανιότητα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ο κριτήριο της απόδοση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ο κριτήριο της αποδεικτικότητα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ο κριτήριο της αξία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86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ΦΑΣΕΙΣ ΑΝΑΓΝΩΡΙΣΗΣ ΤΟΥ ΤΑΛΕΝΤΟΥ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Εξονυχιστική εξέταση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(Πολλαπλά κριτήρια, έγκυρες και αξιόπιστες δοκιμασίες, κλίμακες αξιολόγησης κ.λ.π.)</a:t>
            </a: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Επιλογή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(ατομικές και ομαδικές δοκιμασίες, συνεντεύξεις κ.λ.π.)</a:t>
            </a: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Προσδιορισμό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(Στατιστική προσέγγιση, αξιολογητική</a:t>
            </a:r>
            <a:r>
              <a:rPr b="0" lang="el-GR" sz="27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προσέγγιση, κλινική προσέγγιση)</a:t>
            </a: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91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ΚΡΙΤΗΡΙΑ ΕΠΙΛΟΓΗΣ ΔΟΚΙΜΑΣΙΩΝ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Συνάφεια των δοκιμασιών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Είδος δοκιμασιών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Αξιοπιστί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Εγκυρότητ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Αντικειμενικότητ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Κανονιστικά δεδομέν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Επίδραση ανωτάτου ορίου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96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ΣΥΝΟΨΗ - ΣΥΜΠΕΡΑΣΜΑΤΑ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α σύγχρονα ερευνητικά δεδομένα δεν υποστηρίζουν με βεβαιότητα την ύπαρξη ταλέντου και τη σύνδεσή του με συγγενή χαρίσματ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Η ύπαρξη ταλέντων μάλλον συμπεραίνεται παρά αποδεικνύεται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ο γεγονός αυτό έχει σοβαρές πρακτικές συνέπειες. Η κατηγοριοποίηση των παιδιών σε ταλαντούχα και ατάλαντα άτομα είναι μεροληπτική, αθέμιτη, άδικη, πολυδάπανη και αδόκιμη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Η υπόθεση των ταλέντων δεν είναι απόλυτα λανθασμένη. Είναι όμως μεγαλοποιημένη και υπεραπλουστευμένη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01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240948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A talent! For thirty-seven years I’ve practiced fourteen hours a day, and now they call me a talent!</a:t>
            </a:r>
            <a:br>
              <a:rPr sz="2400"/>
            </a:br>
            <a:br>
              <a:rPr sz="2400"/>
            </a:br>
            <a:r>
              <a:rPr b="0" lang="el-GR" sz="2200" spc="-1" strike="noStrike">
                <a:solidFill>
                  <a:srgbClr val="003300"/>
                </a:solidFill>
                <a:latin typeface="Verdana"/>
              </a:rPr>
              <a:t>Pablo Sarasate</a:t>
            </a:r>
            <a:br>
              <a:rPr sz="2400"/>
            </a:br>
            <a:r>
              <a:rPr b="0" lang="el-GR" sz="2000" spc="-1" strike="noStrike">
                <a:solidFill>
                  <a:srgbClr val="777777"/>
                </a:solidFill>
                <a:latin typeface="Verdana"/>
              </a:rPr>
              <a:t>Violin virtuoso and composer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Θέση υποσέλιδου 5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16" name="Θέση ημερομηνίας 6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35000" y="1999800"/>
            <a:ext cx="885024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0000"/>
                </a:solidFill>
                <a:latin typeface="Verdana"/>
              </a:rPr>
              <a:t>ΑΝΑΓΝΩΡΙΣΗ ΚΑΙ ΑΞΙΟΛΟΓΗΣΗ</a:t>
            </a:r>
            <a:endParaRPr b="1" lang="en-US" sz="3200" spc="-1" strike="noStrike">
              <a:solidFill>
                <a:srgbClr val="cde1d8"/>
              </a:solidFill>
              <a:latin typeface="Verdana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0000"/>
                </a:solidFill>
                <a:latin typeface="Verdana"/>
              </a:rPr>
              <a:t>ΕΝΟΣ ΤΑΛΕΝΤΟΥ</a:t>
            </a:r>
            <a:endParaRPr b="1" lang="en-US" sz="3200" spc="-1" strike="noStrike">
              <a:solidFill>
                <a:srgbClr val="cde1d8"/>
              </a:solidFill>
              <a:latin typeface="Verdana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0000"/>
                </a:solidFill>
                <a:latin typeface="Verdana"/>
              </a:rPr>
              <a:t>ΣΤΗΝ ΕΠΙΔΕΞΙΑ ΚΙΝΗΤΙΚΗ ΣΥΜΠΕΡΙΦΟΡΑ:</a:t>
            </a:r>
            <a:br>
              <a:rPr sz="3200"/>
            </a:br>
            <a:r>
              <a:rPr b="0" lang="el-GR" sz="3200" spc="-1" strike="noStrike">
                <a:solidFill>
                  <a:srgbClr val="003300"/>
                </a:solidFill>
                <a:latin typeface="Arial"/>
              </a:rPr>
              <a:t>ΜΥΘΟΙ ΚΑΙ ΑΛΗΘΕΙΕΣ</a:t>
            </a:r>
            <a:endParaRPr b="1" lang="en-US" sz="3200" spc="-1" strike="noStrike">
              <a:solidFill>
                <a:srgbClr val="cde1d8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05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39068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IF THE KEY’S NOT THERE …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THE LIGHT WON’T HELP</a:t>
            </a:r>
            <a:br>
              <a:rPr sz="2400"/>
            </a:b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The answer to the problem is not to look to for the key in the illuminated area, where it is not; 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nor to look in the dark, where it is but cannot be found; the answer is to shift the illumination to the key area in which we should conduct research …</a:t>
            </a: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.</a:t>
            </a:r>
            <a:br>
              <a:rPr sz="2400"/>
            </a:br>
            <a:br>
              <a:rPr sz="1800"/>
            </a:b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Professor Robert J. Sternberg</a:t>
            </a:r>
            <a:br>
              <a:rPr sz="2200"/>
            </a:b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Department of Psychology</a:t>
            </a:r>
            <a:br>
              <a:rPr sz="2000"/>
            </a:b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Yale University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3840" y="3060720"/>
            <a:ext cx="5168880" cy="914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990000"/>
                </a:solidFill>
                <a:latin typeface="Verdana"/>
              </a:rPr>
              <a:t>Σας ευχαριστώ</a:t>
            </a:r>
            <a:br>
              <a:rPr sz="3600"/>
            </a:br>
            <a:r>
              <a:rPr b="0" lang="el-GR" sz="3600" spc="-1" strike="noStrike">
                <a:solidFill>
                  <a:srgbClr val="990000"/>
                </a:solidFill>
                <a:latin typeface="Verdana"/>
              </a:rPr>
              <a:t>για την </a:t>
            </a:r>
            <a:r>
              <a:rPr b="0" lang="el-GR" sz="3600" spc="-1" strike="noStrike">
                <a:solidFill>
                  <a:srgbClr val="003300"/>
                </a:solidFill>
                <a:latin typeface="Verdana"/>
                <a:ea typeface="굴림"/>
              </a:rPr>
              <a:t>προσοχ</a:t>
            </a:r>
            <a:r>
              <a:rPr b="0" lang="el-GR" sz="3600" spc="-1" strike="noStrike">
                <a:solidFill>
                  <a:srgbClr val="003300"/>
                </a:solidFill>
                <a:latin typeface="Verdana"/>
              </a:rPr>
              <a:t>ή</a:t>
            </a:r>
            <a:r>
              <a:rPr b="0" lang="el-GR" sz="3600" spc="-1" strike="noStrike">
                <a:solidFill>
                  <a:srgbClr val="990000"/>
                </a:solidFill>
                <a:latin typeface="Verdana"/>
              </a:rPr>
              <a:t> σας</a:t>
            </a:r>
            <a:r>
              <a:rPr b="0" lang="en-US" sz="3600" spc="-1" strike="noStrike">
                <a:solidFill>
                  <a:srgbClr val="003300"/>
                </a:solidFill>
                <a:latin typeface="Verdana"/>
                <a:ea typeface="굴림"/>
              </a:rPr>
              <a:t>!</a:t>
            </a:r>
            <a:endParaRPr b="1" lang="en-US" sz="3600" spc="-1" strike="noStrike">
              <a:solidFill>
                <a:srgbClr val="ffe2a9"/>
              </a:solidFill>
              <a:latin typeface="Verdana"/>
            </a:endParaRPr>
          </a:p>
        </p:txBody>
      </p:sp>
      <p:grpSp>
        <p:nvGrpSpPr>
          <p:cNvPr id="309" name="Group 22"/>
          <p:cNvGrpSpPr/>
          <p:nvPr/>
        </p:nvGrpSpPr>
        <p:grpSpPr>
          <a:xfrm>
            <a:off x="685800" y="5124600"/>
            <a:ext cx="1295280" cy="1295280"/>
            <a:chOff x="685800" y="5124600"/>
            <a:chExt cx="1295280" cy="1295280"/>
          </a:xfrm>
        </p:grpSpPr>
        <p:sp>
          <p:nvSpPr>
            <p:cNvPr id="310" name="Oval 23"/>
            <p:cNvSpPr/>
            <p:nvPr/>
          </p:nvSpPr>
          <p:spPr>
            <a:xfrm>
              <a:off x="685800" y="5124600"/>
              <a:ext cx="1295280" cy="1295280"/>
            </a:xfrm>
            <a:prstGeom prst="ellipse">
              <a:avLst/>
            </a:prstGeom>
            <a:solidFill>
              <a:srgbClr val="729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311" name="Oval 24"/>
            <p:cNvSpPr/>
            <p:nvPr/>
          </p:nvSpPr>
          <p:spPr>
            <a:xfrm>
              <a:off x="1042920" y="5542200"/>
              <a:ext cx="716040" cy="716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297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312" name="Oval 25"/>
            <p:cNvSpPr/>
            <p:nvPr/>
          </p:nvSpPr>
          <p:spPr>
            <a:xfrm rot="19033200">
              <a:off x="794880" y="5324400"/>
              <a:ext cx="544680" cy="30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297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</p:grpSp>
      <p:grpSp>
        <p:nvGrpSpPr>
          <p:cNvPr id="313" name="Group 26"/>
          <p:cNvGrpSpPr/>
          <p:nvPr/>
        </p:nvGrpSpPr>
        <p:grpSpPr>
          <a:xfrm>
            <a:off x="1790640" y="6064200"/>
            <a:ext cx="571680" cy="571320"/>
            <a:chOff x="1790640" y="6064200"/>
            <a:chExt cx="571680" cy="571320"/>
          </a:xfrm>
        </p:grpSpPr>
        <p:sp>
          <p:nvSpPr>
            <p:cNvPr id="314" name="Oval 27"/>
            <p:cNvSpPr/>
            <p:nvPr/>
          </p:nvSpPr>
          <p:spPr>
            <a:xfrm>
              <a:off x="1790640" y="6064200"/>
              <a:ext cx="571680" cy="57132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315" name="Oval 28"/>
            <p:cNvSpPr/>
            <p:nvPr/>
          </p:nvSpPr>
          <p:spPr>
            <a:xfrm>
              <a:off x="1947960" y="624816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  <p:sp>
          <p:nvSpPr>
            <p:cNvPr id="316" name="Oval 29"/>
            <p:cNvSpPr/>
            <p:nvPr/>
          </p:nvSpPr>
          <p:spPr>
            <a:xfrm rot="19033200">
              <a:off x="1846440" y="6150960"/>
              <a:ext cx="24732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e2a9"/>
                </a:solidFill>
                <a:latin typeface="Times New Roman"/>
              </a:endParaRPr>
            </a:p>
          </p:txBody>
        </p:sp>
      </p:grpSp>
      <p:sp>
        <p:nvSpPr>
          <p:cNvPr id="317" name="Rectangle 32"/>
          <p:cNvSpPr/>
          <p:nvPr/>
        </p:nvSpPr>
        <p:spPr>
          <a:xfrm>
            <a:off x="9360" y="0"/>
            <a:ext cx="2714760" cy="52560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20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ΤΙ ΟΝΟΜΑΖΕΤΑΙ ΤΑΛΕΝΤΟ;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Η ιδιαιτερότητα ενός ατόμου, συγκεκριμένης προσωπικότητας, να κατέχει σήμερα εξέχουσες γνωστικο-κινητικές ικανότητες και κοινωνικο-πολιτισμικά χαρακτηριστικά: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3300"/>
                </a:solidFill>
                <a:latin typeface="Verdana"/>
              </a:rPr>
              <a:t>που του επιτρέπουν να επιτυγχάνει, χωρίς ιδιαίτερη εξάσκηση, υψηλές επιδόσεις σε ένα συγκεκριμένο θέμα το οποίο απαιτεί ειδικές δεξιότητες και μεγάλη εμπειρία</a:t>
            </a:r>
            <a:endParaRPr b="0" lang="en-US" sz="2200" spc="-1" strike="noStrike">
              <a:solidFill>
                <a:srgbClr val="ffe2a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3300"/>
                </a:solidFill>
                <a:latin typeface="Verdana"/>
              </a:rPr>
              <a:t>που θα του επιτρέψουν στο μέλλον - μετά την ολοκληρωτική τους ανάπτυξη - να επιτύχει, με ειδική εξάσκηση και σε σύντομο χρονικό διάστημα,  ιδιαίτερα υψηλές επιδόσεις σε ένα συγκεκριμένο επιδέξιο θέμα</a:t>
            </a:r>
            <a:endParaRPr b="0" lang="en-US" sz="2200" spc="-1" strike="noStrike">
              <a:solidFill>
                <a:srgbClr val="ffe2a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Θέση υποσέλιδου 5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25" name="Θέση ημερομηνίας 6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Verdana"/>
              </a:rPr>
              <a:t>ΟΙ ΟΡΟΙ ΙΚΑΝΟΤΗΤΑ ΚΑΙ ΔΕΞΙΟΤΗΤΑ</a:t>
            </a:r>
            <a:endParaRPr b="1" lang="en-US" sz="28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Ο όρος</a:t>
            </a:r>
            <a:r>
              <a:rPr b="0" i="1" lang="el-GR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3300"/>
                </a:solidFill>
                <a:latin typeface="Verdana"/>
              </a:rPr>
              <a:t>ικανότητα </a:t>
            </a: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αναφέρεται σε μια υποθετική εγγενή δομή που ελέγχει τον προσανατολισμό, τη χωροχρονική συνέχεια και την ένταση μιας εκούσιας συμπεριφορά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Verdana"/>
              </a:rPr>
              <a:t>Ο όρος </a:t>
            </a: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δεξιότητα </a:t>
            </a:r>
            <a:r>
              <a:rPr b="0" lang="el-GR" sz="2400" spc="-1" strike="noStrike">
                <a:solidFill>
                  <a:srgbClr val="003300"/>
                </a:solidFill>
                <a:latin typeface="Verdana"/>
              </a:rPr>
              <a:t>αναφέρεται σε μια επίκτητη δυνατότητα που βελτιώνει, με συγκεκριμένο τρόπο, το επίπεδο απόδοσης μιας εκούσιας συμπεριφορά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Θέση υποσέλιδου 5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31" name="Θέση ημερομηνίας 6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ΙΚΑΝΟΤΗΤΑ</a:t>
            </a:r>
            <a:r>
              <a:rPr b="0" lang="el-GR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3300"/>
                </a:solidFill>
                <a:latin typeface="Symbol"/>
                <a:ea typeface="Symbol"/>
              </a:rPr>
              <a:t></a:t>
            </a: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ΔΕΞΙΟΤΗΤΑ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E</a:t>
            </a:r>
            <a:r>
              <a:rPr b="0" lang="el-GR" sz="2000" spc="-1" strike="noStrike">
                <a:solidFill>
                  <a:srgbClr val="990000"/>
                </a:solidFill>
                <a:latin typeface="Verdana"/>
              </a:rPr>
              <a:t>ίναι ένα συγγενές, γενικό και μόνιμο χαρακτηριστικό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990000"/>
                </a:solidFill>
                <a:latin typeface="Verdana"/>
              </a:rPr>
              <a:t>Εξελίσσεται με την εξάσκηση και την εμπειρία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990000"/>
                </a:solidFill>
                <a:latin typeface="Verdana"/>
              </a:rPr>
              <a:t>Αποτελεί τη βάση για τη δημιουργία συγκεκριμένων δεξιοτήτων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990000"/>
                </a:solidFill>
                <a:latin typeface="Verdana"/>
              </a:rPr>
              <a:t>Παρουσιάζει τα γενετικά εφόδια που έχει ένα άτομο στη διάθεσή του για να ρυθμίσει το επίπεδο της απόδοσής του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</a:t>
            </a: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ίναι ένα επίκτητο συγκεκριμένο και προσωρινό χαρακτηριστικό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Αποκτάται με την εξάσκηση και την εμπειρία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Εξαρτάται από καθορισμένες ικανότητες για την ιδανική της εκτέλεση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Παρουσιάζει την ταχύτητα, την ακρίβεια και την αποτελεσματικότητα της απόδοσης ενός προκαθορισμένου θέματος σε σχέση με τις απαιτήσεις του περιβάλλοντος</a:t>
            </a:r>
            <a:endParaRPr b="1" lang="en-US" sz="20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Θέση υποσέλιδου 5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37" name="Θέση ημερομηνίας 6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ΣΥΝΩΝΥΜΑ ΤΟΥ ΟΡΟΥ ΤΑΛΕΝΤΟ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άλαντο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Χάρισμ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Αρετή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Δώρο της φύση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Προσόν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Προτέρημ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Ιδιαίτερες ικανότητε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Εξέχουσες δυνατότητε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κ.λ.π.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Verdana"/>
              </a:rPr>
              <a:t>Υπάρχουν περισσότερα από 100 συνώνυμα και ορισμοί του όρου ταλέντο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43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ΠΡΟΒΛΗΜΑΤΑ ΠΟΥ ΑΦΟΡΟΥΝ ΣΤΟΝ ΚΑΘΟΡΙΣΜΟ ΤΟΥ ΟΡΟΥ ΤΑΛΕΝΤΟ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ο πρόβλημα του ουδού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ο πρόβλημα του ορισμού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ο πρόβλημα του πληθυσμού σύγκριση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Λογικές συγχύσεις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Verdana"/>
              </a:rPr>
              <a:t>Αυτός ο αθλητής κάνει πολύ καλές επιδόσεις γιατί έχει ταλέντο. Και που το ξέρεις εσύ ότι έχει ταλέντο; Δεν το βλέπεις; Είναι ολοφάνερο, κάνει πολύ καλές επιδόσεις</a:t>
            </a: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48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ΧΑΡΑΚΤΗΡΙΣΤΙΚΑ ΓΝΩΡΙΣΜΑΤΑ ΤΟΥ ΤΑΛΕΝΤΟΥ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Έχει γενετική προέλευση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Η μέγιστη ισχύς του δεν είναι έκδηλη σε μικρή ηλικί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Κάποια ενδεικτικά του στοιχεία ανιχνεύονται σε μικρή ηλικία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Τα ιδιαίτερα προσόντα του συνδέονται συγκεκριμένη συμπεριφορά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Θέση υποσέλιδου 4"/>
          <p:cNvSpPr/>
          <p:nvPr/>
        </p:nvSpPr>
        <p:spPr>
          <a:xfrm>
            <a:off x="8305920" y="6324480"/>
            <a:ext cx="838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  <a:ea typeface="굴림"/>
              </a:rPr>
              <a:t>LOGO</a:t>
            </a:r>
            <a:endParaRPr b="0" lang="en-US" sz="20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53" name="Θέση ημερομηνίας 5"/>
          <p:cNvSpPr/>
          <p:nvPr/>
        </p:nvSpPr>
        <p:spPr>
          <a:xfrm>
            <a:off x="7848720" y="6629400"/>
            <a:ext cx="129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Your 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site</a:t>
            </a:r>
            <a:r>
              <a:rPr b="1" lang="en-US" sz="1200" spc="-1" strike="noStrike">
                <a:solidFill>
                  <a:srgbClr val="003300"/>
                </a:solidFill>
                <a:latin typeface="Verdana"/>
                <a:ea typeface="굴림"/>
              </a:rPr>
              <a:t> here</a:t>
            </a:r>
            <a:endParaRPr b="0" lang="en-US" sz="1200" spc="-1" strike="noStrike">
              <a:solidFill>
                <a:srgbClr val="ffe2a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00"/>
                </a:solidFill>
                <a:latin typeface="Verdana"/>
              </a:rPr>
              <a:t>ΕΝΝΟΙΟΛΟΓΙΚΕΣ ΟΜΑΔΟΠΟΙΗΣΕΙΣ ΤΩΝ ΟΡΙΣΜΩΝ ΤΟΥ ΤΑΛΕΝΤΟΥ</a:t>
            </a:r>
            <a:endParaRPr b="1" lang="en-US" sz="3200" spc="-1" strike="noStrike">
              <a:solidFill>
                <a:srgbClr val="ffe2a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3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Ορισμοί προσανατολισμένοι στα γενικά χαρακτηριστικά και την προσωπικότητα του ταλέντου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Ορισμοί προσανατολισμένοι στα γνωστικά χαρακτηριστικά του ταλέντου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Ορισμοί προσανατολισμένοι στις δυνατότητες επίτευξης υψηλών επιδόσεων του ταλέντου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00"/>
                </a:solidFill>
                <a:latin typeface="Verdana"/>
              </a:rPr>
              <a:t>Ορισμοί προσανατολισμένοι στα κοινωνικο-πολιτισμικά χαρακτηριστικά του ταλέντου</a:t>
            </a:r>
            <a:endParaRPr b="1" lang="en-US" sz="2400" spc="-1" strike="noStrike">
              <a:solidFill>
                <a:srgbClr val="cde1d8"/>
              </a:solidFill>
              <a:latin typeface="Verdan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6410160" y="6294600"/>
            <a:ext cx="2714760" cy="525240"/>
          </a:xfrm>
          <a:prstGeom prst="rect">
            <a:avLst/>
          </a:prstGeom>
          <a:solidFill>
            <a:srgbClr val="cde1d8"/>
          </a:solidFill>
          <a:ln w="9360">
            <a:solidFill>
              <a:srgbClr val="ffe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ggrouios@phed.auth.gr</a:t>
            </a:r>
            <a:endParaRPr b="0" lang="en-US" sz="1600" spc="-1" strike="noStrike">
              <a:solidFill>
                <a:srgbClr val="ffe2a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5:42:32Z</dcterms:created>
  <dc:creator>yoojin</dc:creator>
  <dc:description/>
  <dc:language>en-US</dc:language>
  <cp:lastModifiedBy>user</cp:lastModifiedBy>
  <dcterms:modified xsi:type="dcterms:W3CDTF">2014-02-14T17:08:10Z</dcterms:modified>
  <cp:revision>70</cp:revision>
  <dc:subject/>
  <dc:title>PowerPoint Template</dc:title>
</cp:coreProperties>
</file>