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AED-8C4E-4082-8E44-BB1E5314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93-9C1C-4FA1-AD66-6EB2B806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EE5-4C6B-4B0A-807C-0910013A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1E3-6256-4C11-A2E1-4B85D2E2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5DE-5B4E-4C0A-B3F0-BE070874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B39-87B3-410E-B79E-5795D1BC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BB6-CAC8-4907-B61F-B7F040D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853C-B3D6-4137-BE70-1CCD9165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7E2-E71F-49C3-A66E-24FEB30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CAD-F50F-4B67-9C64-7FBCB77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56E3-7F68-4E8A-928B-2AC541B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BAF-59D5-4F43-8616-5E2981E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021-E151-4927-B910-6DAFE37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CA7F-ED3F-4231-93CF-9EEDF4B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A6D7-33F6-42CE-B36A-B0948A0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24FF-B0DD-4B93-AB35-AD3ACB64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25E-2D75-4E89-AB19-B104B1A3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E05-1EEE-4211-8294-319D696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67D-EDC7-40B6-BD1A-B2BEE89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FC7-DE62-4931-B064-C7BA069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512-DE6E-455E-BAA8-26114E28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EC7-A47A-44D8-8068-3E808B5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0D6-3EC2-4706-AC35-D2E056F0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37F-2108-4834-9CE0-5858CAE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708-15D8-4C9C-938B-7733018ED30A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3A22-3EFD-4A6F-91EA-CE5586857049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4d4d4d"/>
                </a:solidFill>
                <a:latin typeface="Tahoma"/>
              </a:rPr>
              <a:t>Πρόγραμμα Ψυχολογικής</a:t>
            </a:r>
            <a:r>
              <a:rPr b="1" lang="en-US" sz="4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l-GR" sz="4800" spc="-1" strike="noStrike">
                <a:solidFill>
                  <a:srgbClr val="4d4d4d"/>
                </a:solidFill>
                <a:latin typeface="Tahoma"/>
              </a:rPr>
              <a:t>Προετοιμασίας </a:t>
            </a:r>
            <a:r>
              <a:rPr b="1" lang="el-GR" sz="3200" spc="-1" strike="noStrike">
                <a:solidFill>
                  <a:srgbClr val="4d4d4d"/>
                </a:solidFill>
                <a:latin typeface="Tahoma"/>
              </a:rPr>
              <a:t>(Unestahl, 1983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533520" y="2666880"/>
            <a:ext cx="8610480" cy="2514600"/>
          </a:xfrm>
          <a:prstGeom prst="diamond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  </a:t>
            </a:r>
            <a:r>
              <a:rPr b="0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Inner Mental Training  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200" spc="-1" strike="noStrike">
                <a:solidFill>
                  <a:srgbClr val="4d4d4d"/>
                </a:solidFill>
                <a:latin typeface="Tahoma"/>
              </a:rPr>
              <a:t>Σκοποί του προγράμματος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Η αύξηση της Ιδανικής Κατάστασης Απόδοσης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Η αύξηση της ικανότητας αναπαράστασης και ελέγχου του ιδανικού τρόπου εκτέλεσης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Η απομάκρυνση των εμποδίων για την ιδανική απόδοση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Η βελτίωση της προπόνησης μέσω της βελτίωσης της ικανότητας για χαλάρωση κ.α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15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200" spc="-1" strike="noStrike">
                <a:solidFill>
                  <a:srgbClr val="4d4d4d"/>
                </a:solidFill>
                <a:latin typeface="Tahoma"/>
              </a:rPr>
              <a:t>Κοινά σημεία με την ‘φυσική’ προπόνηση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2600" y="155700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Η εξάσκηση του εαυτού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50200" indent="-25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Συγκεκριμένα πρακτικά προγράμματα για λύση προβλημάτων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50200" indent="-25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Σταδιακή δόμηση της μάθησης βασικών ασκήσεων και τεχνικών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50200" indent="-25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Βασικές νοητικές δεξιότητες σε εξειδικευμένες αγωνιστικές προπονήσεις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50200" indent="-2502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4d4d4d"/>
                </a:solidFill>
                <a:latin typeface="Tahoma"/>
              </a:rPr>
              <a:t>Χρονοδιάγραμμα αντιμετώπισης ψυχολογικών επιβαρύνσεων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ahoma"/>
              </a:rPr>
              <a:t>ΙΜΤ Ι -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Απόκτηση δεξιοτήτων</a:t>
            </a:r>
            <a:r>
              <a:rPr b="1" lang="en-US" sz="3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Oval 7"/>
          <p:cNvSpPr/>
          <p:nvPr/>
        </p:nvSpPr>
        <p:spPr>
          <a:xfrm>
            <a:off x="0" y="1523880"/>
            <a:ext cx="3657600" cy="129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Ψυχοτονική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Προπόνη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657600" y="2133720"/>
            <a:ext cx="12193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800600" y="1828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Μ. Χαλάρωση Ι &amp; ΙΙ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04920" y="2895480"/>
            <a:ext cx="3200400" cy="1067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Αυτο-ύπνω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3733920" y="3505320"/>
            <a:ext cx="106668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876920" y="3124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Ψ. Χαλάρωση Ι &amp; ΙΙ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304920" y="4191120"/>
            <a:ext cx="3200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Ενεργοποίη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733920" y="4572000"/>
            <a:ext cx="106668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76920" y="5257800"/>
            <a:ext cx="4267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Διαλογισμό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Προσοχή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Αποσύνδε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76920" y="38862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Προπόνηση Ενεργοποίηση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457200" y="5181480"/>
            <a:ext cx="3124080" cy="129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Προσοχή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3886200" y="5943600"/>
            <a:ext cx="106668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ΙΜΤ ΙΙ-</a:t>
            </a:r>
            <a:r>
              <a:rPr b="0" lang="en-US" sz="4200" spc="-1" strike="noStrike">
                <a:solidFill>
                  <a:srgbClr val="ffcc00"/>
                </a:solidFill>
                <a:latin typeface="Tahoma"/>
              </a:rPr>
              <a:t>Προπόνηση Παρακίνησης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257800" y="1523880"/>
            <a:ext cx="388620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Ερωτηματολόγιο γνώσης στόχ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Ανάλυση στόχ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00"/>
                </a:solidFill>
                <a:latin typeface="Tahoma"/>
              </a:rPr>
              <a:t>Καθορισμός</a:t>
            </a:r>
            <a:r>
              <a:rPr b="1" lang="en-US" sz="3200" spc="-1" strike="noStrike">
                <a:solidFill>
                  <a:srgbClr val="336600"/>
                </a:solidFill>
                <a:latin typeface="Tahoma"/>
              </a:rPr>
              <a:t> στόχ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0" y="1600200"/>
            <a:ext cx="3733920" cy="1447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d4d4d"/>
                </a:solidFill>
                <a:latin typeface="Tahoma"/>
              </a:rPr>
              <a:t>Καθορισμό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Στόχ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886200" y="2362320"/>
            <a:ext cx="121932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0" y="4495680"/>
            <a:ext cx="4191120" cy="1447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Προγραμματισμό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Στόχ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4191120" y="5257800"/>
            <a:ext cx="121896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410080" y="4572000"/>
            <a:ext cx="3505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Ιδεοκινητική Προπόνη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Στόχοι καριέρα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d4d4d"/>
                </a:solidFill>
                <a:latin typeface="Tahoma"/>
              </a:rPr>
              <a:t>ΙΜΤ ΙΙΙ-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Εφαρμοσμένη ψυχική εξάσκηση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228600" y="1447920"/>
            <a:ext cx="3200400" cy="1676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Λύση 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Προβλημάτ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581280" y="2209680"/>
            <a:ext cx="114300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1371600"/>
            <a:ext cx="42670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Re-conditioning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Συστηματική απευαισθητοποίη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Διακοπή σκέψε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0" y="4191120"/>
            <a:ext cx="3200400" cy="1676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Προπόνηση 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Στάσεων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3581280" y="5029200"/>
            <a:ext cx="114300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876920" y="3429000"/>
            <a:ext cx="426708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Γνωστική αναδόμηση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Αναδόμηση αυτονομία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Εξάσκηση κατοχής στόχου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Εξάσκηση αυτοπεποίθησης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ΙΜP</a:t>
            </a:r>
            <a:r>
              <a:rPr b="0" lang="el-GR" sz="4200" spc="-1" strike="noStrike">
                <a:solidFill>
                  <a:srgbClr val="4d4d4d"/>
                </a:solidFill>
                <a:latin typeface="Tahoma"/>
              </a:rPr>
              <a:t>-</a:t>
            </a:r>
            <a:r>
              <a:rPr b="0" lang="el-GR" sz="4200" spc="-1" strike="noStrike">
                <a:solidFill>
                  <a:srgbClr val="cc3300"/>
                </a:solidFill>
                <a:latin typeface="Tahoma"/>
              </a:rPr>
              <a:t>Αγωνιστική προετοιμασία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25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Εξάσκηση σε </a:t>
            </a:r>
            <a:r>
              <a:rPr b="1" lang="el-GR" sz="3400" spc="-1" strike="noStrike">
                <a:solidFill>
                  <a:srgbClr val="4d4d4d"/>
                </a:solidFill>
                <a:latin typeface="Tahoma"/>
              </a:rPr>
              <a:t>ειδικά </a:t>
            </a: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μοντέλα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25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Εξάσκηση ανάλογη με τη φάση προετοιμασίας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25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Προαγωνιστική εξάσκηση (μοντελική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25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Προετοιμασία αντίστροφης μέτρησης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25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d4d4d"/>
                </a:solidFill>
                <a:latin typeface="Tahoma"/>
              </a:rPr>
              <a:t>Στρατηγικές αγώνα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Tahoma"/>
              </a:rPr>
              <a:t>Ειδικές εφαρμογές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28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Tahoma"/>
              </a:rPr>
              <a:t>Ανάκληση (θετικών) πληροφοριών 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28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Tahoma"/>
              </a:rPr>
              <a:t>Δυναμική της ομάδας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lnSpc>
                <a:spcPct val="140000"/>
              </a:lnSpc>
              <a:spcBef>
                <a:spcPts val="28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Tahoma"/>
              </a:rPr>
              <a:t>Αποκατάσταση μετά από τραυματισμό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7T05:03:16Z</dcterms:created>
  <dc:creator>Panayotis Zahariadis</dc:creator>
  <dc:description/>
  <dc:language>en-US</dc:language>
  <cp:lastModifiedBy>StellaYannis</cp:lastModifiedBy>
  <dcterms:modified xsi:type="dcterms:W3CDTF">2017-07-28T16:05:08Z</dcterms:modified>
  <cp:revision>7</cp:revision>
  <dc:subject/>
  <dc:title>Προγραμματισμός Ψυχικής Προετοιμασίας του Unestahl</dc:title>
</cp:coreProperties>
</file>